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712-F949-4CF3-8937-5B80250B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BD0-C865-4AC4-865F-0A93C77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0DA-7E50-4161-B98B-9799039C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F71-633E-4D4B-81B8-032EDF84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BFC-AE8C-4787-82E5-E6F5A6F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16D-E322-43B7-9BDB-B00A72D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193-0581-4E2E-BB36-8477065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31D-61A3-49F3-83D7-B47BCD7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E0C-4BCB-460C-AFA2-9CD1BAC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CFF-F240-4FA3-8912-28BA876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7A9-9432-495B-B6F4-45BB0B2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E4F-744B-4D67-A75F-9DA9D47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21D1-7418-404C-AF39-10B5E29D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29000"/>
            <a:ext cx="91440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029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wartW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14600"/>
            <a:ext cx="60948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.as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380880"/>
            <a:ext cx="175248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952880" y="2971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257800" y="2971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4197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4197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_items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_builder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638680" y="2971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562720"/>
            <a:ext cx="2210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5867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_controls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90920"/>
            <a:ext cx="556272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sid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971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er sid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34340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1066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114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6:44:42Z</dcterms:created>
  <dc:creator>Kevin Burns</dc:creator>
  <dc:description/>
  <dc:language>en-US</dc:language>
  <cp:lastModifiedBy>Kevin Burns</cp:lastModifiedBy>
  <dcterms:modified xsi:type="dcterms:W3CDTF">2003-01-24T16:57:56Z</dcterms:modified>
  <cp:revision>2</cp:revision>
  <dc:subject/>
  <dc:title>Slide 1</dc:title>
</cp:coreProperties>
</file>