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B2B-4E7F-4C66-85EA-C736E738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07D-275F-4E7A-ADDB-5C4517F3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C3F-7544-4E1C-9392-61E85C20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000F-7793-40C1-839A-D3997EA5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513-490B-453B-A955-48D8486C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A12-F414-46AF-86A3-01F9529D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02A-1BE9-406F-A9E1-C19108E5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708-97F9-482B-B18E-E5F0E16D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54DD-A6E6-4B23-A4F0-5D51BF53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E1C0-2F3A-42F4-9DDA-BDF739A7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8C5D-C535-411F-A0CE-1C7E5091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5189-2EF3-43DC-8E76-C6E1FC1E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07B8-335B-4BA3-B3C8-3FB45FC4E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344520"/>
          <a:ext cx="8534160" cy="65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44520"/>
                    <a:ext cx="8534160" cy="65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286000" y="4038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38862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25909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1676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4724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52578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55627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6002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4648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142640" y="388584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4800600"/>
            <a:ext cx="2590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066680" y="55627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371600" y="3733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66680" y="1828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200400" y="36572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9718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114800" y="17524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9528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952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46748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8686440" y="320040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019920" y="1752480"/>
            <a:ext cx="3045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30492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981080" y="1980720"/>
            <a:ext cx="266724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380880" y="609480"/>
            <a:ext cx="8382240" cy="457200"/>
            <a:chOff x="380880" y="609480"/>
            <a:chExt cx="8382240" cy="457200"/>
          </a:xfrm>
        </p:grpSpPr>
        <p:sp>
          <p:nvSpPr>
            <p:cNvPr id="71" name=""/>
            <p:cNvSpPr/>
            <p:nvPr/>
          </p:nvSpPr>
          <p:spPr>
            <a:xfrm>
              <a:off x="380880" y="609480"/>
              <a:ext cx="27432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4080" y="609480"/>
              <a:ext cx="563904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ol 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76320" y="-76320"/>
            <a:ext cx="43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FM Flow - Controls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80880" y="1066680"/>
            <a:ext cx="8382240" cy="685800"/>
            <a:chOff x="380880" y="1066680"/>
            <a:chExt cx="8382240" cy="685800"/>
          </a:xfrm>
        </p:grpSpPr>
        <p:sp>
          <p:nvSpPr>
            <p:cNvPr id="75" name=""/>
            <p:cNvSpPr/>
            <p:nvPr/>
          </p:nvSpPr>
          <p:spPr>
            <a:xfrm>
              <a:off x="380880" y="10666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 Interface from OutlookSoft to MBIA Batch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24080" y="10666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Interface Controls to ensure accuracy and complete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80880" y="1752480"/>
            <a:ext cx="8382240" cy="685800"/>
            <a:chOff x="380880" y="1752480"/>
            <a:chExt cx="8382240" cy="685800"/>
          </a:xfrm>
        </p:grpSpPr>
        <p:sp>
          <p:nvSpPr>
            <p:cNvPr id="78" name=""/>
            <p:cNvSpPr/>
            <p:nvPr/>
          </p:nvSpPr>
          <p:spPr>
            <a:xfrm>
              <a:off x="380880" y="17524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 Interface control from SUMMIT, PAM, MIDAS and MARS to MBIA Batch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24080" y="17524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Interface Controls to ensure accuracy and complete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80880" y="2438280"/>
            <a:ext cx="8382240" cy="685800"/>
            <a:chOff x="380880" y="2438280"/>
            <a:chExt cx="8382240" cy="685800"/>
          </a:xfrm>
        </p:grpSpPr>
        <p:sp>
          <p:nvSpPr>
            <p:cNvPr id="81" name=""/>
            <p:cNvSpPr/>
            <p:nvPr/>
          </p:nvSpPr>
          <p:spPr>
            <a:xfrm>
              <a:off x="380880" y="24382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 A&amp;R Adjust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24080" y="24382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sible approval(s) before adjustments perform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dit report on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80880" y="3124080"/>
            <a:ext cx="8382240" cy="685800"/>
            <a:chOff x="380880" y="3124080"/>
            <a:chExt cx="8382240" cy="685800"/>
          </a:xfrm>
        </p:grpSpPr>
        <p:sp>
          <p:nvSpPr>
            <p:cNvPr id="84" name=""/>
            <p:cNvSpPr/>
            <p:nvPr/>
          </p:nvSpPr>
          <p:spPr>
            <a:xfrm>
              <a:off x="380880" y="31240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 Remotes – Legal Entities Corp Branches to HF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24080" y="31240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Interface Controls to ensure accuracy and complete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80880" y="3809880"/>
            <a:ext cx="8382240" cy="685800"/>
            <a:chOff x="380880" y="3809880"/>
            <a:chExt cx="8382240" cy="685800"/>
          </a:xfrm>
        </p:grpSpPr>
        <p:sp>
          <p:nvSpPr>
            <p:cNvPr id="87" name=""/>
            <p:cNvSpPr/>
            <p:nvPr/>
          </p:nvSpPr>
          <p:spPr>
            <a:xfrm>
              <a:off x="380880" y="38098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. ADP to Axs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4080" y="38098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Interface Controls to ensure accuracy and complete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80880" y="4495680"/>
            <a:ext cx="8382240" cy="685800"/>
            <a:chOff x="380880" y="4495680"/>
            <a:chExt cx="8382240" cy="685800"/>
          </a:xfrm>
        </p:grpSpPr>
        <p:sp>
          <p:nvSpPr>
            <p:cNvPr id="90" name=""/>
            <p:cNvSpPr/>
            <p:nvPr/>
          </p:nvSpPr>
          <p:spPr>
            <a:xfrm>
              <a:off x="380880" y="44956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. A&amp;R Adjust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4080" y="44956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sible approval(s) before adjustments perform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dit report on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80880" y="5181480"/>
            <a:ext cx="8382240" cy="685800"/>
            <a:chOff x="380880" y="5181480"/>
            <a:chExt cx="8382240" cy="685800"/>
          </a:xfrm>
        </p:grpSpPr>
        <p:sp>
          <p:nvSpPr>
            <p:cNvPr id="93" name=""/>
            <p:cNvSpPr/>
            <p:nvPr/>
          </p:nvSpPr>
          <p:spPr>
            <a:xfrm>
              <a:off x="380880" y="51814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. Mappin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24080" y="51814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s on who can perform mappings – Access Secur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s on accuracy and completeness of Map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80880" y="5867280"/>
            <a:ext cx="8382240" cy="685800"/>
            <a:chOff x="380880" y="5867280"/>
            <a:chExt cx="8382240" cy="685800"/>
          </a:xfrm>
        </p:grpSpPr>
        <p:sp>
          <p:nvSpPr>
            <p:cNvPr id="96" name=""/>
            <p:cNvSpPr/>
            <p:nvPr/>
          </p:nvSpPr>
          <p:spPr>
            <a:xfrm>
              <a:off x="380880" y="58672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. Reconcil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24080" y="58672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 to reconcile AxsOne to source systems including any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nth-end reconciliation reports from AxsOne to source system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57200" y="685800"/>
            <a:ext cx="7772400" cy="838080"/>
            <a:chOff x="457200" y="685800"/>
            <a:chExt cx="7772400" cy="838080"/>
          </a:xfrm>
        </p:grpSpPr>
        <p:sp>
          <p:nvSpPr>
            <p:cNvPr id="99" name=""/>
            <p:cNvSpPr/>
            <p:nvPr/>
          </p:nvSpPr>
          <p:spPr>
            <a:xfrm>
              <a:off x="457200" y="685800"/>
              <a:ext cx="15238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81080" y="685800"/>
              <a:ext cx="14479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 to be converted from Historical Sourc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9000" y="685800"/>
              <a:ext cx="16002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tail / Summar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29200" y="685800"/>
              <a:ext cx="16002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tomated or Manual – How is this process launched – who launches the 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29400" y="685800"/>
              <a:ext cx="16002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alidation reports and contr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57200" y="1523880"/>
            <a:ext cx="7772400" cy="533520"/>
            <a:chOff x="457200" y="1523880"/>
            <a:chExt cx="7772400" cy="533520"/>
          </a:xfrm>
        </p:grpSpPr>
        <p:sp>
          <p:nvSpPr>
            <p:cNvPr id="105" name=""/>
            <p:cNvSpPr/>
            <p:nvPr/>
          </p:nvSpPr>
          <p:spPr>
            <a:xfrm>
              <a:off x="457200" y="1523880"/>
              <a:ext cx="152388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81080" y="1523880"/>
              <a:ext cx="14479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8-Months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152388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mmar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29200" y="152388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tom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52388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alidation reports and contr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57200" y="2057400"/>
            <a:ext cx="7772400" cy="533520"/>
            <a:chOff x="457200" y="2057400"/>
            <a:chExt cx="7772400" cy="533520"/>
          </a:xfrm>
        </p:grpSpPr>
        <p:sp>
          <p:nvSpPr>
            <p:cNvPr id="111" name=""/>
            <p:cNvSpPr/>
            <p:nvPr/>
          </p:nvSpPr>
          <p:spPr>
            <a:xfrm>
              <a:off x="457200" y="2057400"/>
              <a:ext cx="152388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81080" y="2057400"/>
              <a:ext cx="14479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8-Months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205740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mmar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29200" y="205740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tom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29400" y="205740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alidation reports and contr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5:06:35Z</dcterms:created>
  <dc:creator>Internal Audit</dc:creator>
  <dc:description/>
  <dc:language>en-US</dc:language>
  <cp:lastModifiedBy>Alex Choong</cp:lastModifiedBy>
  <dcterms:modified xsi:type="dcterms:W3CDTF">2003-08-22T17:42:05Z</dcterms:modified>
  <cp:revision>12</cp:revision>
  <dc:subject/>
  <dc:title>MBIA</dc:title>
</cp:coreProperties>
</file>