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9535-8E64-4014-832E-BA1FC32D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290-BAFA-4DDB-9E8F-08AFC09B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FEC-776D-4228-9BCE-D15788DE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0B25-4976-49F8-AC6A-C9072F98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964-87CE-4FCD-9819-00672C7E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D4E-59AE-47DC-A393-42E1E2B0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4011-3413-4AC3-B4DE-3522CBB8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BF0-7615-4C76-81E9-78EBF780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9E1-2BBC-488B-9AD5-FB403559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07E-866C-4EAF-B249-8C4620FB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C20-6EF8-4C85-A0D6-51CC9882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0A1-D115-484F-8F77-A99A424A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41A1-94A0-425F-84F4-7DF628CF8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1120" y="142920"/>
            <a:ext cx="61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sic Architecture of an Exper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08040" y="13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s5-14half" descr=""/>
          <p:cNvPicPr/>
          <p:nvPr/>
        </p:nvPicPr>
        <p:blipFill>
          <a:blip r:embed="rId1"/>
          <a:stretch/>
        </p:blipFill>
        <p:spPr>
          <a:xfrm>
            <a:off x="1600200" y="825480"/>
            <a:ext cx="7086600" cy="55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B67-6EE0-4806-AEDB-4AC18831B0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89680" y="371520"/>
            <a:ext cx="50392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w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follows from rule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is gas 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re is gas 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 was given by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 was given by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1691-1D0A-41BB-8E5D-898673A040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4560" y="270000"/>
            <a:ext cx="4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6840" y="193680"/>
            <a:ext cx="6623640" cy="66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rci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blood pressure is likely to b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isk of heart failure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blood pressure is likely to be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isk of heart failure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lcohol consumption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atient salt intake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lood pressure is likely to b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lcohol consumption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atient salt intake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lood pressure is likely to be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g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lt;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gt;= 20 AND &lt;+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al: determine a patient's risk of heart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estions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ts of alcohol &gt;30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lt intak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232-D79E-4469-83E8-2709033DA3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5440" y="228600"/>
            <a:ext cx="84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ward chai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ata driven): the inference engine work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nitial content of the workspace towards the final co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320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es5-17" descr=""/>
          <p:cNvPicPr/>
          <p:nvPr/>
        </p:nvPicPr>
        <p:blipFill>
          <a:blip r:embed="rId1"/>
          <a:stretch/>
        </p:blipFill>
        <p:spPr>
          <a:xfrm>
            <a:off x="1143000" y="3238560"/>
            <a:ext cx="6858000" cy="3211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8080" y="1143000"/>
            <a:ext cx="61257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AND B THEN 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B THE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C AND D THEN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DC40-F536-497E-8710-29F04C9CF8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1905120"/>
            <a:ext cx="23623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182880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809880" y="1447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1447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4724280"/>
            <a:ext cx="2362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4648320"/>
            <a:ext cx="20574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5410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320" y="14479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2640" y="4038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360" y="304920"/>
            <a:ext cx="67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Expert system for diagnosing car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21E-3E5A-4153-BAA6-686D2E6CFE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1143000"/>
            <a:ext cx="236196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ga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ga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0666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1523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8960" y="609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134C-1E15-4330-905B-B152863BC0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9640" y="304920"/>
            <a:ext cx="64270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lanation in Forward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urrent rule under consideration is pres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difficult than in back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E85-F917-4C37-BF20-7BD494DC67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4200" y="193680"/>
            <a:ext cx="566712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management competence is 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External credit rating is 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Bank's credit rating is mar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Loan is rej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Loan type is sea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rofitability rating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ank's credit rating is mar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3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Cash/current liabilities &gt;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Tentative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nk's credit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sh/current liabiliti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ternal credit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A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n typ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agement compete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fitabilit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venc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ntative solvenc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964-5FD5-42FF-A233-A3E6002759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488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9880" y="1522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s5-19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099120" cy="4695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63800" y="457200"/>
            <a:ext cx="67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osing between backward and for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DEAA-E238-4F90-9B4B-49C9070FE3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99960" y="304920"/>
            <a:ext cx="56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brid Expert System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08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s5-20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570280" cy="509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880D-2C2A-4772-8597-DDC9285C79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79320" y="498600"/>
            <a:ext cx="66960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WEIGHT of MY-FORD &gt; 3,000 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et DETOUR AROUND RICKETY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?VEHICLE is instance-of AUTOMOBIL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?VEHICLE has-a ?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?ENGINE is instance-of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et REFUEL of ?VEHICLE to TRUCK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020-092E-4C31-9DFD-BEA15DCB59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0520" y="457200"/>
            <a:ext cx="8866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Knowledg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contains the domain specific problem-solv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l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represent what we know at any time about the proble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are working 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represent relationships between the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erence engi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is a general program that activates the knowledg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knowledge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fa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nables the user to communicate with the expert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62F6-51B4-4D5F-A371-FB68FEB835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111840" y="201600"/>
            <a:ext cx="20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3280" y="1143000"/>
            <a:ext cx="8750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ajor components of an expert system are the knowledge base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erence engine, and user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-based expert systems are introdu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two approaches for controlling inference in rule-bas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ert systems: forward chaining and back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F30D-AF21-4874-9E59-E70EF994B3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7040" y="142920"/>
            <a:ext cx="552240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Rule-Based Exper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d on the production system conc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engine will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ploy a particula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cute a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play a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B40-FA04-4C6B-A69F-B388AE116D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09240" y="1143000"/>
            <a:ext cx="648144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erence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ion of rule candidates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ice of one rule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flict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cution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3DA-D8C4-4943-9302-55D04123FB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120" y="0"/>
            <a:ext cx="81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ckward chai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goal driven): the inference engine work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kward from a conclusion to be proven to determine if ther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data in the workspace to prove the truth of the co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359000"/>
            <a:ext cx="61257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AND B THEN 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B THE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C AND D THEN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s5-18" descr=""/>
          <p:cNvPicPr/>
          <p:nvPr/>
        </p:nvPicPr>
        <p:blipFill>
          <a:blip r:embed="rId1"/>
          <a:stretch/>
        </p:blipFill>
        <p:spPr>
          <a:xfrm>
            <a:off x="609480" y="3328920"/>
            <a:ext cx="5639040" cy="35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FAE0-6FBE-4F4C-8E97-985E549BDF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2280" y="345960"/>
            <a:ext cx="6817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Expert system for diagnosing car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engine will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does not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lights do not com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battery or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does not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lights do com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the starter mo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is gas 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re is gas 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767-1F64-4E58-916E-8341959282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838080"/>
            <a:ext cx="2362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762120"/>
            <a:ext cx="20574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219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581280" y="380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380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657600"/>
            <a:ext cx="23623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wil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5812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038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58128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2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4038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752480" y="6400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752480" y="6095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7720" y="3808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040" y="297180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7294-0842-4506-9EB0-FDFA896080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90720" y="1143000"/>
            <a:ext cx="236196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wil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10666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1523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886200" y="685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685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685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057400" y="5257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057400" y="4952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8960" y="609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DA2-C066-405F-BCAB-362FE2D7B4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3400" y="228600"/>
            <a:ext cx="479556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lanation in Backward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gine will turn 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has been established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the engine is getting g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fore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the engine will turn ov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D14-9AB0-44E4-BA72-0C625486AB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0:36:00Z</dcterms:created>
  <dc:creator>sxp</dc:creator>
  <dc:description/>
  <dc:language>en-US</dc:language>
  <cp:lastModifiedBy>sxp</cp:lastModifiedBy>
  <cp:lastPrinted>2000-11-03T11:28:00Z</cp:lastPrinted>
  <dcterms:modified xsi:type="dcterms:W3CDTF">2000-11-14T10:12:13Z</dcterms:modified>
  <cp:revision>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>Industrial Information Systems
School of Computer Science and IT
The University of Nottingham</vt:lpwstr>
  </property>
  <property fmtid="{D5CDD505-2E9C-101B-9397-08002B2CF9AE}" pid="13" name="OutputDir">
    <vt:lpwstr>C:\My Documents\IndustrialI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