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94D3-C845-4F19-B0F3-35786759E6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B981-75AD-4125-A357-D62603A27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793-34BE-406F-981A-4F0A1CF92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E790-E72A-4A84-A199-4B121C33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B34-E1F0-453D-BB2A-45FCDF25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4E08-2AF3-4FFD-8418-67F834D3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7745-0BC1-4A4A-BB71-F330142CD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A951-0237-4176-808B-AF35D65F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F674-3419-40F9-9123-AFC19E29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A8A63-2450-4002-90C2-C5655D6E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7BE7-296E-4660-8B43-7AC78039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D44F-EFC5-4305-950F-62418B85D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1D252-D49B-4AAF-BF0C-DD43573024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1120" y="142920"/>
            <a:ext cx="61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sic Architecture of an Exper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08040" y="13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s5-14half" descr=""/>
          <p:cNvPicPr/>
          <p:nvPr/>
        </p:nvPicPr>
        <p:blipFill>
          <a:blip r:embed="rId1"/>
          <a:stretch/>
        </p:blipFill>
        <p:spPr>
          <a:xfrm>
            <a:off x="1600200" y="825480"/>
            <a:ext cx="7086600" cy="55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C57F-7DF8-459C-BB36-44DFF04C889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89680" y="371520"/>
            <a:ext cx="50392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w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follows from rule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7808-338C-44AC-89CD-AE303894C54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4560" y="27000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6840" y="193680"/>
            <a:ext cx="6623640" cy="66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rci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lt;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= 20 AND &lt;+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al: determine a patient's risk of heart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stions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 of alcohol &gt;30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lt intak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83AE-40F8-47E8-993E-271B4F0138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5440" y="228600"/>
            <a:ext cx="84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ata driven): the inference engine work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nitial content of the workspace towards the final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320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es5-17" descr=""/>
          <p:cNvPicPr/>
          <p:nvPr/>
        </p:nvPicPr>
        <p:blipFill>
          <a:blip r:embed="rId1"/>
          <a:stretch/>
        </p:blipFill>
        <p:spPr>
          <a:xfrm>
            <a:off x="1143000" y="3238560"/>
            <a:ext cx="6858000" cy="3211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8080" y="1143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3D29-BAA5-48B3-B5CA-94BABE35B2F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1905120"/>
            <a:ext cx="23623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182880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09880" y="1447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447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4724280"/>
            <a:ext cx="2362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46483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5410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320" y="1447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2640" y="4038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360" y="304920"/>
            <a:ext cx="67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4024-F940-46F2-817E-B6CB157DDCA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523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DFEA-DF50-4D72-85EB-4A8968D751C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9640" y="304920"/>
            <a:ext cx="64270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For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urrent rule under consideration is pres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difficult than in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F837-CE8F-4A91-935F-6990B3E8534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4200" y="193680"/>
            <a:ext cx="566712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management competence is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External credit rating is 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Loan is 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Loan type is 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rofitability rating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3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Cash/current liabilities &gt;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Tentative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nk's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sh/current liabiliti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rnal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 typ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agement compete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fitabilit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ntative 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1C47-6F7A-44AE-9D3F-1C86DC6E180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488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9880" y="1522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s5-19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099120" cy="4695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63800" y="457200"/>
            <a:ext cx="67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ing between backward and for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5DD66-AF59-45E7-A13E-EF590F4F2E1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9960" y="304920"/>
            <a:ext cx="56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brid Expert System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08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s5-20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570280" cy="509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10A2-69F9-450D-B0D3-9F153ED3AFE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79320" y="498600"/>
            <a:ext cx="66960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WEIGHT of MY-FORD &gt; 3,000 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DETOUR AROUND RICKETY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?VEHICLE is instance-of AUTOMOBIL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VEHICLE has-a ?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ENGINE is instance-of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REFUEL of ?VEHICLE to TRUCK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53D-6C60-457E-9F80-485248A2316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0520" y="457200"/>
            <a:ext cx="8866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Knowledg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contains the domain specific problem-solv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what we know at any time about the proble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are working 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relationships between the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is a general program that activates the knowledg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knowledge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nables the user to communicate with the expert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A7B3-67FF-4BA5-9E07-593BC33143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111840" y="20160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280" y="1143000"/>
            <a:ext cx="875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jor components of an expert system are the knowledge base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erence engine, and user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-based expert systems are intro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two approaches for controlling inference in rule-bas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rt systems: forward chaining and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DDA5-DFDC-442E-A72E-AFE2705AC02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7040" y="142920"/>
            <a:ext cx="552240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Rule-Based Exper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d on the production system con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ploy a particul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e a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play a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275F-E8D0-4CF1-B9B2-FB6D6B39675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9240" y="1143000"/>
            <a:ext cx="64814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on of rule candidates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 of one rule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flict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ion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AAA2-59B7-4A6D-90B4-D34F7AD831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120" y="0"/>
            <a:ext cx="81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ck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goal driven): the inference engine work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ward from a conclusion to be proven to determine if ther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data in the workspace to prove the truth of the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359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s5-18" descr=""/>
          <p:cNvPicPr/>
          <p:nvPr/>
        </p:nvPicPr>
        <p:blipFill>
          <a:blip r:embed="rId1"/>
          <a:stretch/>
        </p:blipFill>
        <p:spPr>
          <a:xfrm>
            <a:off x="609480" y="3328920"/>
            <a:ext cx="563904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6068-3C66-499A-BFB8-5C66A94B57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2280" y="345960"/>
            <a:ext cx="6817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not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battery or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the starter mo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F5908-28E0-4856-94B3-9F8A13D8F0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838080"/>
            <a:ext cx="2362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7621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219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581280" y="380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380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657600"/>
            <a:ext cx="23623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5812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038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58128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4038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752480" y="6400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75248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7720" y="3808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29718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370-B2A7-4D9F-A0D4-33DB3623D2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1523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886200" y="685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85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057400" y="5257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057400" y="4952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DBD8-8699-47B7-9273-E071E23575C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3400" y="228600"/>
            <a:ext cx="47955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Back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gine will turn 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has been established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the engine is getting g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fore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the engine will turn ov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074F-1064-44FC-A312-3C7C169991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0:36:00Z</dcterms:created>
  <dc:creator>sxp</dc:creator>
  <dc:description/>
  <dc:language>en-US</dc:language>
  <cp:lastModifiedBy>sxp</cp:lastModifiedBy>
  <cp:lastPrinted>2000-11-03T11:28:00Z</cp:lastPrinted>
  <dcterms:modified xsi:type="dcterms:W3CDTF">2000-11-14T10:12:13Z</dcterms:modified>
  <cp:revision>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Industrial Information Systems
School of Computer Science and IT
The University of Nottingham</vt:lpwstr>
  </property>
  <property fmtid="{D5CDD505-2E9C-101B-9397-08002B2CF9AE}" pid="13" name="OutputDir">
    <vt:lpwstr>C:\My Documents\IndustrialI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