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D7D3-4C43-4DF6-936E-35E92D561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794-4527-4AFC-A10B-9FC1B0695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27FE-D940-40C8-A0AA-A7928B9D7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0DB7-D80D-46E7-A209-1A9761D9A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EF37-6988-4DC4-A60D-BFCEE51B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2B4D-86C4-453A-BFB8-608D8F687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2B46-71B8-4798-8433-60FEEFEB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A3E7-18D3-41FB-BC33-95E7FB12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290-F177-44D4-A4C8-8802B79F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21C-484A-480E-843F-CD54A53C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746-55F4-4EAB-95CB-72B74F12E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DFE3-4AE6-4080-B674-FCB21AF2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0932-735D-460A-9722-52B7A97EF4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304920" y="344520"/>
          <a:ext cx="8534160" cy="651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44520"/>
                    <a:ext cx="8534160" cy="651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2286000" y="40384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8120" y="3886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25909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33920" y="1676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172200" y="13716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14800" y="4724280"/>
            <a:ext cx="380880" cy="3812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52578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315200" y="55627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763120" y="28195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6002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791320" y="464832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76520" y="4572000"/>
            <a:ext cx="380880" cy="380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1142640" y="3885840"/>
            <a:ext cx="6094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057400" y="4800600"/>
            <a:ext cx="25909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066680" y="5562720"/>
            <a:ext cx="5335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371600" y="3733920"/>
            <a:ext cx="9144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066680" y="1828800"/>
            <a:ext cx="5335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3200400" y="36572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57600" y="297180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4114800" y="17524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495680" y="4952880"/>
            <a:ext cx="38124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95288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467480" y="53337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8686440" y="3200400"/>
            <a:ext cx="2286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6019920" y="1752480"/>
            <a:ext cx="30456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086600" y="304920"/>
            <a:ext cx="167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981080" y="1980720"/>
            <a:ext cx="266724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380880" y="609480"/>
            <a:ext cx="8382240" cy="457200"/>
            <a:chOff x="380880" y="609480"/>
            <a:chExt cx="8382240" cy="457200"/>
          </a:xfrm>
        </p:grpSpPr>
        <p:sp>
          <p:nvSpPr>
            <p:cNvPr id="71" name=""/>
            <p:cNvSpPr/>
            <p:nvPr/>
          </p:nvSpPr>
          <p:spPr>
            <a:xfrm>
              <a:off x="380880" y="609480"/>
              <a:ext cx="274320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roces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124080" y="609480"/>
              <a:ext cx="563904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ol Descrip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76320" y="-76320"/>
            <a:ext cx="432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FM Flow - Controls Identif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80880" y="1066680"/>
            <a:ext cx="8382240" cy="685800"/>
            <a:chOff x="380880" y="1066680"/>
            <a:chExt cx="8382240" cy="685800"/>
          </a:xfrm>
        </p:grpSpPr>
        <p:sp>
          <p:nvSpPr>
            <p:cNvPr id="75" name=""/>
            <p:cNvSpPr/>
            <p:nvPr/>
          </p:nvSpPr>
          <p:spPr>
            <a:xfrm>
              <a:off x="380880" y="10666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 Interface from OutlookSoft to MBIA Batch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24080" y="10666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80880" y="1752480"/>
            <a:ext cx="8382240" cy="685800"/>
            <a:chOff x="380880" y="1752480"/>
            <a:chExt cx="8382240" cy="685800"/>
          </a:xfrm>
        </p:grpSpPr>
        <p:sp>
          <p:nvSpPr>
            <p:cNvPr id="78" name=""/>
            <p:cNvSpPr/>
            <p:nvPr/>
          </p:nvSpPr>
          <p:spPr>
            <a:xfrm>
              <a:off x="380880" y="17524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 Interface control from SUMMIT, PAM, MIDAS and MARS to MBIA Batch Syste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124080" y="17524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380880" y="2438280"/>
            <a:ext cx="8382240" cy="685800"/>
            <a:chOff x="380880" y="2438280"/>
            <a:chExt cx="8382240" cy="685800"/>
          </a:xfrm>
        </p:grpSpPr>
        <p:sp>
          <p:nvSpPr>
            <p:cNvPr id="81" name=""/>
            <p:cNvSpPr/>
            <p:nvPr/>
          </p:nvSpPr>
          <p:spPr>
            <a:xfrm>
              <a:off x="380880" y="24382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 A&amp;R Adjust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124080" y="24382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sible approval(s) before adjustments perform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dit report on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0880" y="3124080"/>
            <a:ext cx="8382240" cy="685800"/>
            <a:chOff x="380880" y="3124080"/>
            <a:chExt cx="8382240" cy="685800"/>
          </a:xfrm>
        </p:grpSpPr>
        <p:sp>
          <p:nvSpPr>
            <p:cNvPr id="84" name=""/>
            <p:cNvSpPr/>
            <p:nvPr/>
          </p:nvSpPr>
          <p:spPr>
            <a:xfrm>
              <a:off x="380880" y="31240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 Remotes – Legal Entities Corp Branches to HF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124080" y="31240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380880" y="3809880"/>
            <a:ext cx="8382240" cy="685800"/>
            <a:chOff x="380880" y="3809880"/>
            <a:chExt cx="8382240" cy="685800"/>
          </a:xfrm>
        </p:grpSpPr>
        <p:sp>
          <p:nvSpPr>
            <p:cNvPr id="87" name=""/>
            <p:cNvSpPr/>
            <p:nvPr/>
          </p:nvSpPr>
          <p:spPr>
            <a:xfrm>
              <a:off x="380880" y="38098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 ADP to Axs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124080" y="38098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Interface Controls to ensure accuracy and completen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380880" y="4495680"/>
            <a:ext cx="8382240" cy="685800"/>
            <a:chOff x="380880" y="4495680"/>
            <a:chExt cx="8382240" cy="685800"/>
          </a:xfrm>
        </p:grpSpPr>
        <p:sp>
          <p:nvSpPr>
            <p:cNvPr id="90" name=""/>
            <p:cNvSpPr/>
            <p:nvPr/>
          </p:nvSpPr>
          <p:spPr>
            <a:xfrm>
              <a:off x="380880" y="44956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. A&amp;R Adjustm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124080" y="44956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st of 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sible approval(s) before adjustments performe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dit report on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80880" y="5181480"/>
            <a:ext cx="8382240" cy="685800"/>
            <a:chOff x="380880" y="5181480"/>
            <a:chExt cx="8382240" cy="685800"/>
          </a:xfrm>
        </p:grpSpPr>
        <p:sp>
          <p:nvSpPr>
            <p:cNvPr id="93" name=""/>
            <p:cNvSpPr/>
            <p:nvPr/>
          </p:nvSpPr>
          <p:spPr>
            <a:xfrm>
              <a:off x="380880" y="51814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. Mapping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124080" y="51814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s on who can perform mappings – Access Secur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s on accuracy and completeness of Mapp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st plan and test results to d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s Identified / Resolution / Walkaround procedu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380880" y="5867280"/>
            <a:ext cx="8382240" cy="685800"/>
            <a:chOff x="380880" y="5867280"/>
            <a:chExt cx="8382240" cy="685800"/>
          </a:xfrm>
        </p:grpSpPr>
        <p:sp>
          <p:nvSpPr>
            <p:cNvPr id="96" name=""/>
            <p:cNvSpPr/>
            <p:nvPr/>
          </p:nvSpPr>
          <p:spPr>
            <a:xfrm>
              <a:off x="380880" y="5867280"/>
              <a:ext cx="274320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. Reconcili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124080" y="5867280"/>
              <a:ext cx="56390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 to reconcile AxsOne to source systems including any adjustments perform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nth-end reconciliation reports from AxsOne to source system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457200" y="685800"/>
            <a:ext cx="7772400" cy="838080"/>
            <a:chOff x="457200" y="685800"/>
            <a:chExt cx="7772400" cy="838080"/>
          </a:xfrm>
        </p:grpSpPr>
        <p:sp>
          <p:nvSpPr>
            <p:cNvPr id="99" name=""/>
            <p:cNvSpPr/>
            <p:nvPr/>
          </p:nvSpPr>
          <p:spPr>
            <a:xfrm>
              <a:off x="457200" y="685800"/>
              <a:ext cx="152388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981080" y="685800"/>
              <a:ext cx="14479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to be converted from Historical Sourc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90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tail / 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0292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 or Manual – How is this process launched – who launches the pro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629400" y="685800"/>
              <a:ext cx="160020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57200" y="1523880"/>
            <a:ext cx="7772400" cy="533520"/>
            <a:chOff x="457200" y="1523880"/>
            <a:chExt cx="7772400" cy="533520"/>
          </a:xfrm>
        </p:grpSpPr>
        <p:sp>
          <p:nvSpPr>
            <p:cNvPr id="105" name=""/>
            <p:cNvSpPr/>
            <p:nvPr/>
          </p:nvSpPr>
          <p:spPr>
            <a:xfrm>
              <a:off x="457200" y="1523880"/>
              <a:ext cx="15238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981080" y="1523880"/>
              <a:ext cx="1447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8-Months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0292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629400" y="152388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57200" y="2057400"/>
            <a:ext cx="7772400" cy="533520"/>
            <a:chOff x="457200" y="2057400"/>
            <a:chExt cx="7772400" cy="533520"/>
          </a:xfrm>
        </p:grpSpPr>
        <p:sp>
          <p:nvSpPr>
            <p:cNvPr id="111" name=""/>
            <p:cNvSpPr/>
            <p:nvPr/>
          </p:nvSpPr>
          <p:spPr>
            <a:xfrm>
              <a:off x="457200" y="2057400"/>
              <a:ext cx="152388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D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981080" y="2057400"/>
              <a:ext cx="144792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8-Months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4290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mar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292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utomat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629400" y="2057400"/>
              <a:ext cx="160020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alidation reports and contro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15:06:35Z</dcterms:created>
  <dc:creator>Internal Audit</dc:creator>
  <dc:description/>
  <dc:language>en-US</dc:language>
  <cp:lastModifiedBy>Alex Choong</cp:lastModifiedBy>
  <dcterms:modified xsi:type="dcterms:W3CDTF">2003-08-22T17:42:05Z</dcterms:modified>
  <cp:revision>12</cp:revision>
  <dc:subject/>
  <dc:title>MBIA</dc:title>
</cp:coreProperties>
</file>