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0CC-F260-4C6F-A38B-D88F83484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F571-6603-4691-B42E-DB0615637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5CA9-418D-4195-B263-276528251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A072-0AF2-457B-9200-6ABC4CEEA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59E-2DC3-4AEC-8B50-7EF41AB68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24B0-A3D6-4C6F-8223-3102F95AB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206C-342E-4FAE-8DEE-6A8D0D40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B461-5701-4B3D-9445-387FF7726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5FB11-3A36-4894-B2E2-EDA766C4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45AB-8F34-4B36-A596-FBDB4F6F9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A8C5-00A1-40E7-879B-DBE3255DF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538C-9B8B-434F-A959-067E79EAF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7E68B-B662-4AA4-9181-1098A650DC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31120" y="142920"/>
            <a:ext cx="616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Basic Architecture of an Exper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08040" y="1336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es5-14half" descr=""/>
          <p:cNvPicPr/>
          <p:nvPr/>
        </p:nvPicPr>
        <p:blipFill>
          <a:blip r:embed="rId1"/>
          <a:stretch/>
        </p:blipFill>
        <p:spPr>
          <a:xfrm>
            <a:off x="1600200" y="825480"/>
            <a:ext cx="7086600" cy="554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80EE-2038-480D-ACF3-C4876E1A22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89680" y="371520"/>
            <a:ext cx="5039280" cy="39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how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follows from rule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 was given by the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B6840-A2EC-4F08-957D-3D90018724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14560" y="27000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76840" y="193680"/>
            <a:ext cx="6623640" cy="66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erci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risk of heart failur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atient salt intake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lood pressure is likely to be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5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6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lt; 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Rule 7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units of alcohol per week are &gt;= 20 AND &lt;+ 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alcohol consumption is ave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oal: determine a patient's risk of heart fail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Questions: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ts of alcohol &gt;30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2398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t intake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C57F-35B9-49BE-BF89-5377C66E4F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05440" y="228600"/>
            <a:ext cx="84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data driven): the inference engine works fro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initial content of the workspace towards the final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32080" y="1336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es5-17" descr=""/>
          <p:cNvPicPr/>
          <p:nvPr/>
        </p:nvPicPr>
        <p:blipFill>
          <a:blip r:embed="rId1"/>
          <a:stretch/>
        </p:blipFill>
        <p:spPr>
          <a:xfrm>
            <a:off x="1143000" y="3238560"/>
            <a:ext cx="6858000" cy="32115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838080" y="1143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DBAA-25A9-40D8-A6DE-BF4577A27BA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1905120"/>
            <a:ext cx="23623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182880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76720" y="22860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809880" y="1447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1447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1447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4724280"/>
            <a:ext cx="23623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91120" y="46483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276720" y="5410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066320" y="144792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142640" y="4038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360" y="304920"/>
            <a:ext cx="67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ACC7C-54E9-4B0C-B587-5B4EFB0CD1C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is ga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s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352680" y="15238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ECCC-F77F-44E8-AF85-8CA36ADCBCE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49640" y="304920"/>
            <a:ext cx="6427080" cy="29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For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current rule under consideration is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7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re difficult than in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65E3-9C35-4E7E-AC34-E63CCF414D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14200" y="193680"/>
            <a:ext cx="5667120" cy="65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management competence is go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External credit rating is 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Loan is rej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Loan type is 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Profitability rating is 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Bank's credit rating is marg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3: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F Cash/current liabilities &gt;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Tentative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N Solvency rating is 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ank's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sh/current liabilities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0.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ternal credit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EAS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an typ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agement compete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fitabilit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I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entative solvency rating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AD5E-2CFA-4542-9E87-56925E91EB8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74880" y="34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9880" y="152280"/>
            <a:ext cx="5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es5-19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099120" cy="46958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63800" y="457200"/>
            <a:ext cx="67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–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osing between backward and for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05BF-08B4-4E22-A268-D6D21368DDD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299960" y="304920"/>
            <a:ext cx="561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Hybrid Expert Syste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60880" y="2479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es5-20" descr=""/>
          <p:cNvPicPr/>
          <p:nvPr/>
        </p:nvPicPr>
        <p:blipFill>
          <a:blip r:embed="rId1"/>
          <a:stretch/>
        </p:blipFill>
        <p:spPr>
          <a:xfrm>
            <a:off x="1447920" y="1371600"/>
            <a:ext cx="5570280" cy="5099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7183-F1F6-4745-AE34-884DA3D6B5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79320" y="498600"/>
            <a:ext cx="6696000" cy="39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WEIGHT of MY-FORD &gt; 3,000 p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DETOUR AROUND RICKETY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2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?VEHICLE is instance-of AUTOMOBILE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VEHICLE has-a ?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?ENGINE is instance-of DIE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set REFUEL of ?VEHICLE to TRUCKS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A0440-3B55-4244-9937-D2E9F2535D9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90520" y="457200"/>
            <a:ext cx="8866080" cy="38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Knowledg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contains the domain specific problem-solving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knowled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what we know at any time about the problem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 are working 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represent relationships between the fac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- is a general program that activates the knowledg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knowledge b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terfac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enables the user to communicate with the expert syst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3D16-8372-4852-B331-90A31A3164B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111840" y="201600"/>
            <a:ext cx="207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43280" y="1143000"/>
            <a:ext cx="8750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major components of an expert system are the knowledge base,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ference engine, and user interf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-based expert systems are introduc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287280"/>
                <a:tab algn="l" pos="574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 are two approaches for controlling inference in rule-based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pert systems: forward chaining and backward chai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68A-6935-438F-8911-0B170305B82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37040" y="142920"/>
            <a:ext cx="5522400" cy="625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Rule-Based Expert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sed on the production system concep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c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nclu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ploy a particular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e a proced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–"/>
              <a:tabLst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isplay a re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DDA3F-1D5F-4A59-A635-0F7343B7A3E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209240" y="1143000"/>
            <a:ext cx="6481440" cy="31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ference Eng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election of rule candidates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hoice of one rule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flict 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ecution: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de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339840"/>
                <a:tab algn="l" pos="69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614-18A6-4782-BAD5-1A1675802B2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47120" y="0"/>
            <a:ext cx="815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339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ckward chainin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goal driven): the inference engine work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kward from a conclusion to be proven to determine if there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re data in the workspace to prove the truth of the concl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359000"/>
            <a:ext cx="6125760" cy="20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Rule bas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rk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1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A AND B THEN 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,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2: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B THEN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C AND D THEN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s5-18" descr=""/>
          <p:cNvPicPr/>
          <p:nvPr/>
        </p:nvPicPr>
        <p:blipFill>
          <a:blip r:embed="rId1"/>
          <a:stretch/>
        </p:blipFill>
        <p:spPr>
          <a:xfrm>
            <a:off x="609480" y="3328920"/>
            <a:ext cx="5639040" cy="3529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797F-56E6-4954-ACB1-B967205CECE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12280" y="345960"/>
            <a:ext cx="68176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 Expert system for diagnosing car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engine will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not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battery or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 engine does not 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 lights do come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the starter mo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: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F there is gas in the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D there is gas in the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engine is 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26E0-AFFA-4059-997F-A00343502D8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85800" y="838080"/>
            <a:ext cx="23623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762120"/>
            <a:ext cx="2057400" cy="1904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219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581280" y="38052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1280" y="3808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528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3657600"/>
            <a:ext cx="2362320" cy="243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5812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038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358128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81280" y="32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638680" y="40384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858000" y="40384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1752480" y="6400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1752480" y="6095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7720" y="3808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914040" y="297180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4D64-9384-444D-9D20-F5CA1FCD722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990720" y="1143000"/>
            <a:ext cx="2361960" cy="3809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ting 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engine will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urn 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blem is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267080" y="1066680"/>
            <a:ext cx="2057400" cy="1905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ul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352680" y="1523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3886200" y="685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86200" y="6858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257800" y="685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943600" y="2590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162920" y="2590920"/>
            <a:ext cx="0" cy="26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2057400" y="52578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057400" y="49525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18960" y="609480"/>
            <a:ext cx="202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orking s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50AA-6CE4-45C4-9B06-B59BD56F85F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3400" y="228600"/>
            <a:ext cx="47955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lanation in Backward Ch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Wh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fuel tan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as in carburetto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gine will turn ov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w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t has been established 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1. the engine is getting g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refore 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2. the engine will turn ov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n the problem is spark pl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906C-0404-41AF-AA7A-B56BB398818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7T10:36:00Z</dcterms:created>
  <dc:creator>sxp</dc:creator>
  <dc:description/>
  <dc:language>en-US</dc:language>
  <cp:lastModifiedBy>sxp</cp:lastModifiedBy>
  <cp:lastPrinted>2000-11-03T11:28:00Z</cp:lastPrinted>
  <dcterms:modified xsi:type="dcterms:W3CDTF">2000-11-14T10:12:13Z</dcterms:modified>
  <cp:revision>63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4</vt:r8>
  </property>
  <property fmtid="{D5CDD505-2E9C-101B-9397-08002B2CF9AE}" pid="12" name="Other">
    <vt:lpwstr>Industrial Information Systems
School of Computer Science and IT
The University of Nottingham</vt:lpwstr>
  </property>
  <property fmtid="{D5CDD505-2E9C-101B-9397-08002B2CF9AE}" pid="13" name="OutputDir">
    <vt:lpwstr>C:\My Documents\IndustrialIS</vt:lpwstr>
  </property>
  <property fmtid="{D5CDD505-2E9C-101B-9397-08002B2CF9AE}" pid="14" name="ScreenSize">
    <vt:r8>3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