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EB1-97B7-4EA3-ACC9-644F2F1D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37B-0EE9-45C9-88F1-857BBB9A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735-8A09-43C0-A897-BBB3D0CB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41B-4700-4D96-92E5-AA68322B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E3C-4C1B-42A4-BD69-0CF48C50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BE3-7FA9-464E-AE9E-BC05A393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870-AB0C-488E-ADDB-F45BCD13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76F-3843-4D7E-BB88-C07B9BDF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4AC-40D6-4604-B4F7-CC381895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C1B-0211-4063-B363-02C32163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CB5-E87D-4999-A266-A26F069D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5BC-07E9-4446-8512-67418431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8976-5EE3-4507-B47F-E06B1DD4C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tmitwww.tm.tue.nl/research/patterns/standards.htm" TargetMode="Externa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mitwww.tm.tue.nl/research/patterns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660G - Lectur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 B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ies + Control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d, acyclic (chain structure)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18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FL Data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output message of a given business task is used by (input) one or more subsequent business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s the result data of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(map) may be necessary if the input message type is different from the output messag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snippet on page 4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Data flow is parallel to the Control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95280" y="121932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w let’s discuss the realization of the flow’s activities …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 Compositions of 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ice Provi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ice providers with which the flow interacts is separated from the binding of those service providers to the actual business partners implementating those services. See Figure 18.4 page 4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Provider declaration in the flow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ProviderType attribute links to the portTyp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Based on a UDDI lookup and some established criteria (i.e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ality of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we might want to bind to the most desirable service provider, from a list of potential provider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ynamically rather than statical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ic implies using the same business partner all of th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or elements – locat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ual business part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see page 48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w let’s discuss exposing the flow as a service provider itself so others can use i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w Model as a Service Provi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18.5, page 490 – interface to which the flow model’s clients connect; 4 operations (1 inbound, 3 outbound) depicted as ar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up portType and serviceProvider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xternal instead of 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cycle Operations, Flow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instances of a given flow can execute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– WSDL request-response operation with the input of the flow as the input message and the output of the flow as the output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wn – WSDL one-way operation with the input of the flow as the input mess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operations: suspend, resume, inquire, term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– a flow defines a composition of services by specifying a usage pattern of its service providers’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low model can become a service itself, offering a set of WSDL interfaces to possible clients; therefore the flow could become part of yet another service composition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 is a mechanism by which services can be recursively composed following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low composition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ecuting engine is the single point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pecify multiparty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18.7 – 2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18.8 – 3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00200" y="16765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eyond WSFL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ervice flow languages, execution languages, orchestration languages, web-enabled workflow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8 – WSF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457200"/>
            <a:ext cx="3429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’s WS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457200"/>
            <a:ext cx="3429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Soft’s X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885840" y="1600200"/>
            <a:ext cx="1295640" cy="1143000"/>
          </a:xfrm>
          <a:prstGeom prst="rightArrow">
            <a:avLst>
              <a:gd name="adj1" fmla="val 50000"/>
              <a:gd name="adj2" fmla="val 283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PEL4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t a standard, y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4572000"/>
            <a:ext cx="61722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 the proposed standards support a variety of complex, stateful, asynchronous, etc., business processes interactions? We’ll hear more on this next class from Team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there a consensus on the workflow constructs that need to be supported and their semantics? i.e. Many interpretations of Joint constr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18288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SCI (from BEA, Intalio, SAP, and Su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981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P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www.bpmi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9718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bXML’s BPSS(OASIS and UN/CEF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3200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PDL (Wf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459200">
            <a:off x="6857640" y="3733920"/>
            <a:ext cx="685800" cy="761760"/>
          </a:xfrm>
          <a:custGeom>
            <a:avLst/>
            <a:gdLst>
              <a:gd name="textAreaLeft" fmla="*/ 91800 w 685800"/>
              <a:gd name="textAreaRight" fmla="*/ 594000 w 6858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based on competing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mitwww.tm.tue.nl/research/patterns/standard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579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447920"/>
            <a:ext cx="86104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1 – Bldg an ATM application – Ardian, Lisa, Andrew, Arvinder (confer with Team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2 - Transactional Web Services – Ian, Simon, Zheng, Pratima (confer with Team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3 – Bldg an .NET application – Muhammad, Patricia, Larry, Jul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4 – Bldg a Consulting (time &amp; materials) application – Piotr, Smitha, Igor, Ro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5 – Web Security – Prashant, Michelle, Mich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these languages compel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 trends converging in E-Commerce that are creating opportunities and pressures to automate business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-based standards and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improve efficiency of processes across enterpri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al of web services is to exploit XML technology and the internet to integrate applications that can be published, located and invoked over the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Galileo system connects &gt; 42,000 travel agencies to 37 car rental companies, 47,000 hotels, and 350 tour 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ng-running interactions that are driven by an explici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7280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b-Services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52480" y="762120"/>
          <a:ext cx="6705720" cy="55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2120"/>
                    <a:ext cx="670572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505320" y="3886200"/>
            <a:ext cx="1600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ocuments"/>
          <p:cNvSpPr/>
          <p:nvPr/>
        </p:nvSpPr>
        <p:spPr>
          <a:xfrm>
            <a:off x="5029200" y="25909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7080" y="1447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SDL Documents (not necessarily on 1 UDDI 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1371600"/>
            <a:ext cx="4876920" cy="35053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3200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or &gt;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3733920"/>
            <a:ext cx="2590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048120"/>
            <a:ext cx="228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operation receives a message (one-way), receives and sends a message (request-response), sends and receives a message (solicit-response), or sends a message (not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808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n as a whole …these are composed services which may/usually require long-lived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4267080"/>
            <a:ext cx="8384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4191120"/>
            <a:ext cx="8380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114800"/>
            <a:ext cx="8384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rvices Inte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– stateless – one peer acts as the server and the other acts as th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DL and SOAP su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– peer to peer interactions involving multiple invocations flowing between 2 or more services to achieve a desir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siness 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s – order of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chestration – single point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sage patte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collection of web services so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ose services provides the functionality needed to achiev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siness go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Business proc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in the flow (business tas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(control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8.1 on page 4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05720" y="3809880"/>
            <a:ext cx="2133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 WSF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trol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ata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426708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4800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SFL Flow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867280"/>
            <a:ext cx="4724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on workflow patterns can be found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mitwww.tm.tue.nl/research/patter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FL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tivity is a single step in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“how” an operation (the actual implementation) fits into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 can involve a human or a piece of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SFL code on page 4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FL Control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the execution order of individual activities/tasks and the conditional logic (logical dependency between 2 tasks) specifying whether they should be performed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completed before 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5:24:06Z</dcterms:created>
  <dc:creator>KB</dc:creator>
  <dc:description/>
  <dc:language>en-US</dc:language>
  <cp:lastModifiedBy>KB</cp:lastModifiedBy>
  <dcterms:modified xsi:type="dcterms:W3CDTF">2004-03-31T16:16:26Z</dcterms:modified>
  <cp:revision>48</cp:revision>
  <dc:subject/>
  <dc:title>Slide 1</dc:title>
</cp:coreProperties>
</file>