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39C-F94E-4148-BD4F-924CC96F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650-3C35-48C8-A271-5B4840D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1D6-B212-4444-B381-5F5D7882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D7A-9E87-467E-9048-9CC84F11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793B-B883-431A-A210-D90C6D61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DC1-37A5-4A6E-A1A7-2BAFCF2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3699-6BB2-4FCE-94C6-342BBD8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B873-FC02-414D-B199-A35D31E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04D6-72EA-4B50-B96C-F3273DF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94F6-CC44-48D9-8B4D-E56FC2A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A10C-4B85-45D9-A89F-B3B968E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00D-FBC0-452C-92DE-89FC383C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2A93-1578-4655-BFC5-735327E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38E8-D840-43E6-A2F6-7664644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C4AE-CABE-444B-ABC2-AA798E99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61C3-4788-49E5-B43D-7FBC4638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2308-0394-46A4-94BB-0266D516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64F-7049-464D-AF46-A7B5B2A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534-F365-4840-B8A6-B1650AD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9B5-ECED-4CE2-A645-9DBADD9F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441-5AB4-4141-AFE0-B352737E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76A-28ED-43D2-88CC-605085A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B6F-C853-4221-904F-5257E1AC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DDD-3E0F-49C2-9405-E10C772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D1A-2376-40F1-9679-48144B1470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86B6-76F8-4113-BE8F-BB07FCB2CF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java.sun.com/j2ee/javaserverfaces/" TargetMode="External"/><Relationship Id="rId2" Type="http://schemas.openxmlformats.org/officeDocument/2006/relationships/hyperlink" Target="http://jcp.org/en/jsr/detail?id=127" TargetMode="External"/><Relationship Id="rId3" Type="http://schemas.openxmlformats.org/officeDocument/2006/relationships/hyperlink" Target="http://www.javaworld.com/javaworld/jw-12-1999/jw-12-ssj-jspmvc.html" TargetMode="External"/><Relationship Id="rId4" Type="http://schemas.openxmlformats.org/officeDocument/2006/relationships/hyperlink" Target="http://www.javaworld.com/javaworld/jw-12-1999/jw-12-ssj-jspmvc.html" TargetMode="External"/><Relationship Id="rId5" Type="http://schemas.openxmlformats.org/officeDocument/2006/relationships/hyperlink" Target="http://www.javaworld.com/javaworld/jw-12-1999/jw-12-ssj-jspmvc.html" TargetMode="External"/><Relationship Id="rId6" Type="http://schemas.openxmlformats.org/officeDocument/2006/relationships/hyperlink" Target="http://www.javaworld.com/javaworld/jw-12-1999/jw-12-ssj-jspmvc.html" TargetMode="External"/><Relationship Id="rId7" Type="http://schemas.openxmlformats.org/officeDocument/2006/relationships/hyperlink" Target="http://www.javaworld.com/javaworld/jw-12-1999/jw-12-ssj-jspmvc.html" TargetMode="External"/><Relationship Id="rId8" Type="http://schemas.openxmlformats.org/officeDocument/2006/relationships/hyperlink" Target="http://www.javaworld.com/javaworld/jw-12-1999/jw-12-ssj-jspmvc.html" TargetMode="External"/><Relationship Id="rId9" Type="http://schemas.openxmlformats.org/officeDocument/2006/relationships/hyperlink" Target="http://www.javaworld.com/javaworld/jw-12-1999/jw-12-ssj-jspmvc.html" TargetMode="External"/><Relationship Id="rId10" Type="http://schemas.openxmlformats.org/officeDocument/2006/relationships/hyperlink" Target="http://www.javaworld.com/javaworld/jw-12-1999/jw-12-ssj-jspmvc.html" TargetMode="External"/><Relationship Id="rId11" Type="http://schemas.openxmlformats.org/officeDocument/2006/relationships/hyperlink" Target="http://www.javaworld.com/javaworld/jw-12-1999/jw-12-ssj-jspmvc.html" TargetMode="External"/><Relationship Id="rId12" Type="http://schemas.openxmlformats.org/officeDocument/2006/relationships/hyperlink" Target="http://www.javaworld.com/javaworld/jw-12-1999/jw-12-ssj-jspmvc.html" TargetMode="External"/><Relationship Id="rId13" Type="http://schemas.openxmlformats.org/officeDocument/2006/relationships/hyperlink" Target="http://www.javaworld.com/javaworld/jw-12-1999/jw-12-ssj-jspmvc.html" TargetMode="External"/><Relationship Id="rId14" Type="http://schemas.openxmlformats.org/officeDocument/2006/relationships/hyperlink" Target="http://www.javaworld.com/javaworld/jw-12-1999/jw-12-ssj-jspmvc.html" TargetMode="External"/><Relationship Id="rId15" Type="http://schemas.openxmlformats.org/officeDocument/2006/relationships/hyperlink" Target="http://www.javaworld.com/javaworld/jw-12-1999/jw-12-ssj-jspmvc.html" TargetMode="External"/><Relationship Id="rId16" Type="http://schemas.openxmlformats.org/officeDocument/2006/relationships/hyperlink" Target="http://www.servlets.com/soapbox/problems-jsp.html" TargetMode="External"/><Relationship Id="rId17" Type="http://schemas.openxmlformats.org/officeDocument/2006/relationships/hyperlink" Target="http://www.servlets.com/soapbox/problems-jsp.html" TargetMode="External"/><Relationship Id="rId18" Type="http://schemas.openxmlformats.org/officeDocument/2006/relationships/hyperlink" Target="http://www.servlets.com/soapbox/problems-jsp.html" TargetMode="External"/><Relationship Id="rId19" Type="http://schemas.openxmlformats.org/officeDocument/2006/relationships/hyperlink" Target="http://www.servlets.com/soapbox/problems-jsp.html" TargetMode="External"/><Relationship Id="rId20" Type="http://schemas.openxmlformats.org/officeDocument/2006/relationships/hyperlink" Target="http://www.servlets.com/soapbox/problems-jsp.html" TargetMode="External"/><Relationship Id="rId21" Type="http://schemas.openxmlformats.org/officeDocument/2006/relationships/hyperlink" Target="http://jakarta.apache.org/" TargetMode="External"/><Relationship Id="rId22" Type="http://schemas.openxmlformats.org/officeDocument/2006/relationships/hyperlink" Target="http://barracuda.enhydra.org/" TargetMode="External"/><Relationship Id="rId23" Type="http://schemas.openxmlformats.org/officeDocument/2006/relationships/hyperlink" Target="http://www.ftech.co.uk/~honeyg/articles/pda.htm" TargetMode="External"/><Relationship Id="rId24" Type="http://schemas.openxmlformats.org/officeDocument/2006/relationships/hyperlink" Target="http://www.ftech.co.uk/~honeyg/articles/pda.htm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terns and Frameworks for Managing Dynamic Views in Web Applica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: Daniel Archamb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visor: Harold Stre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VC Model1 Patte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ntrol is decentralized (current page determines next page to be display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JSP page processes its own inputs (parameters from GET or PO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8480" y="4267080"/>
            <a:ext cx="1374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43434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25780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59984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27920" y="404496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8200" y="473076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038480"/>
            <a:ext cx="22860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4320" y="609588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343400"/>
            <a:ext cx="2819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erprise Servers/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VC Model2 Patte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ly difference with Model 1 is the addition of a controller serv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atch requests from the client t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s 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160" y="4267080"/>
            <a:ext cx="1374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41972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ntrol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5105520"/>
            <a:ext cx="1600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4572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8240" y="419112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38600" y="3581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581280"/>
            <a:ext cx="45720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4320" y="609588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3657600"/>
            <a:ext cx="16765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erprise Servers/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5410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3809880"/>
            <a:ext cx="1600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51320" y="556884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tant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14400" y="3886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2EE BluePrints Web Application Framework (WAF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F is a good starting point for learning about the principles of MVC Model 2 based framework design and usage in web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used as the infrastructure of some sample J2EE applications provided by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nstrates the mechanism and effective use of a Web-tier framework in an application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F is suitable for small and non-critical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 Controller serv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action class for Web-tier 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lating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ic custom t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tionaliz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ache Struts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8640" y="1980720"/>
            <a:ext cx="8955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ts is also based on the MVC Model 2 pattern, but is more powerful than W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ustrial-strength framewor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itable for large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ts is not a “standard” for which J2EE product providers can reliably create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ts provides more features than W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forms with valid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ic population of server-side JavaB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ty classes for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er set of custom tags the ones offered by WA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ache Turbine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bine is similar to Struts, but has richer set of features for managing dynamic view, such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es with other template engine than JSP, such as Cocoon, WebMacro, FreeMarker and Velo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 Services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s up dynamic web applications by providing a means to manage cached data of various dynamic natur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bine also have a broader scope than struts, provi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with Object Relational Mapping tools cap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b schedu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ization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ased on “Model 2 + 1” which is very similar to Model 2 (main difference is the way the actions are us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hydra Barracuda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8640" y="198108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racuda framework is a combination of MVC and Component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more scalable than Struts, since it supports 3 different approach to content generation (accommodate application development with different levels of complexit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Serv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late Engines (JSP, TeaServlet, Webmacro, Freemarker, Veloc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 Object Model (DOM) Mani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provides better component composition and reuse than using Turbine or Str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racuda is still not a “standard” for which J2EE product providers can reliably create tool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Framework Proposed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erver 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Server Faces intends to handle all of the complexity of managing the user interface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 in progress by the Java Specification Request JSR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stablish a standard API for creating Java web application GU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liminate the need for developers of creating and maintaining web application GUI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bridge the gap between conventional GUI toolkit developers and web-based GUI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erServer Faces will provid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GUI component framework which can be leveraged by J2EE development tools provi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Pattern Proposed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Vie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View is a new pattern in the area of web application busin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Manage a Web active (dynamic) 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in demand for dynamic pag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 to update content with consist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develop a specific powerful client by using a particular protocol to support communication between client and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ata value changes in database, the runtime system produces a particular signal over the net, and upon receiving the signal the client update its view.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Pattern Proposed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View cont’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ive View pattern provides a solution to this problem by refocusing the Observer pattern in a Web architect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s an easy method to develop an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nders the front-end receptive to business logic’s sig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s the independence among objects, allowing the subject to disregard the number of interested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unication between the subservlet and observlet could be developed using standard potocol such as Java RM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Pattern Proposed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View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517680" y="2395440"/>
            <a:ext cx="184464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&lt;Httpservlet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doGe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doPos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124080"/>
            <a:ext cx="182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971800"/>
            <a:ext cx="182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438280"/>
            <a:ext cx="1371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upd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59040" y="3014640"/>
            <a:ext cx="13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286000"/>
            <a:ext cx="21333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attach(ob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detach(ob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notif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304812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07160" y="286236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27432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11444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05080" y="28749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724280"/>
            <a:ext cx="21337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serv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548640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525780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37335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19520" y="35053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724280"/>
            <a:ext cx="152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bserv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486400"/>
            <a:ext cx="150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5257800"/>
            <a:ext cx="150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4724280"/>
            <a:ext cx="1600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SendEve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48640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525780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50292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04812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5880" y="47242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120" y="4724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26040" y="47242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7800" y="47242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943600" y="3886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ope of the problem of managing dynamic views in web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behind providing better solution for managing dynamic views in web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terns and Frameworks already in 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Pattern and Framework propo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398320"/>
            <a:ext cx="8193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more in-depth the Active View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ore integrating the Active View pattern with other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a reference implementation of the Active View pattern as a proof of con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terns for Web applications, Diego Bonura, Rosario Culmone, Emanuela Merilli, July 2002, ACM 1-58113-556-4/02/0700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vaServer Faces Technology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java.sun.com/j2ee/javaserverfaces/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vaServer Faces - JSR127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jcp.org/en/jsr/detail?id=127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rstanding JavaServer Pages Model 2 Architecture --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javaworld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com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javaworld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jw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-12-1999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jw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-12-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ssj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-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jspmvc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.htm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roblems with JSP --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http://www.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servlets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.com/soapbox/problems-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9"/>
              </a:rPr>
              <a:t>jsp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0"/>
              </a:rPr>
              <a:t>.htm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pache Jakarta Project --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1"/>
              </a:rPr>
              <a:t>http://jakarta.apache.org/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hydra Barracuda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2"/>
              </a:rPr>
              <a:t>http://barracuda.enhydra.or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Patterns: From Analysis to Implementation, Net Objectives, 2002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Pattern for Web Programming - Do you need MVC?, Al Williams, June 2002, Internet Strategies for Technology Leader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ole of Patterns in Enterprise Architecture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3"/>
              </a:rPr>
              <a:t>http://www.ftech.co.uk/~honeyg/articles/pda.ht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ing Enterprise Applications with the J2E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latform, Second Editio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4"/>
              </a:rPr>
              <a:t>http://www.ftech.co.uk/~honeyg/articles/pda.ht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Application Development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several problems being actively researched in web application development, such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ing Dynamic Vi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termine which view to display and its content with consistent infor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dentify users of a system and decide what privileges to provide to specific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termining accurately source of error, reporting it appropriately and recovering from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of Managing Dynamic View in Web Ap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and Content of web pages are becoming increasingly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decouple the work of the web designer creating views from the programmers providing the cont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provide improved web application development framework to facilita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w’s components arrangement and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connection between view components state and input handling with object defining application’s behavi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in comme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tion is reducing profit marg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running and maintaining increasingly complex system incr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important to minimize costs to avoid losing mon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5627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5410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551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65920" y="21337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429000"/>
            <a:ext cx="3124080" cy="1295280"/>
          </a:xfrm>
          <a:custGeom>
            <a:avLst/>
            <a:gdLst/>
            <a:ahLst/>
            <a:rect l="l" t="t" r="r" b="b"/>
            <a:pathLst>
              <a:path w="1728" h="480">
                <a:moveTo>
                  <a:pt x="0" y="0"/>
                </a:moveTo>
                <a:cubicBezTo>
                  <a:pt x="384" y="32"/>
                  <a:pt x="768" y="64"/>
                  <a:pt x="1056" y="144"/>
                </a:cubicBezTo>
                <a:cubicBezTo>
                  <a:pt x="1344" y="224"/>
                  <a:pt x="1536" y="352"/>
                  <a:pt x="1728" y="48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886200"/>
            <a:ext cx="3047760" cy="99072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0" y="624"/>
                </a:moveTo>
                <a:cubicBezTo>
                  <a:pt x="416" y="604"/>
                  <a:pt x="832" y="584"/>
                  <a:pt x="1152" y="480"/>
                </a:cubicBezTo>
                <a:cubicBezTo>
                  <a:pt x="1472" y="376"/>
                  <a:pt x="1696" y="188"/>
                  <a:pt x="192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3400" y="43768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89600" y="30052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cont’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7600" y="190512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hieving desired set of Quality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terns and Frameworks facilitate building, maintaining and expanding complex web application by focusing on such quality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 between Patterns and Frame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133720"/>
            <a:ext cx="3048120" cy="453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tte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-View Controller (MV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terns within M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Control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site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191120"/>
            <a:ext cx="13716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276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Block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2133720"/>
            <a:ext cx="3048120" cy="44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2EE BluePrints Web Application Framework(W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ache Str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ache Turb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rrac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mm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Forge Web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 Web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BM Web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-View-Controller Patte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-View-Controller (MVC)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established pattern for development of interactiv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ly popular in web applic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design concerns (control, presentation, data persistence and behavi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s code du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ize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s application modifi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construct architecture that facilitates managing dynamic views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-View-Controller Pattern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1905120"/>
            <a:ext cx="3657600" cy="18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fines application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ps user actions to model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s view fo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4419720"/>
            <a:ext cx="3276720" cy="218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capsulates application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ds to state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ses application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es views of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419720"/>
            <a:ext cx="3276360" cy="194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nders th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s updates from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s user actions to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controller to select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029200"/>
            <a:ext cx="1905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7400" y="457200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581280" y="5715000"/>
            <a:ext cx="190512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10720" y="594360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294920" y="2362320"/>
            <a:ext cx="1295640" cy="2057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70440" y="365760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5280" y="289548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ew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752480" y="3048120"/>
            <a:ext cx="838440" cy="13716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438280"/>
            <a:ext cx="1218960" cy="1981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47120" y="304812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6629400"/>
            <a:ext cx="9144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5040" y="64008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629400"/>
            <a:ext cx="914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0200" y="64008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Invo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04:21:51Z</dcterms:created>
  <dc:creator>Fei Wang</dc:creator>
  <dc:description/>
  <dc:language>en-US</dc:language>
  <cp:lastModifiedBy>KB</cp:lastModifiedBy>
  <dcterms:modified xsi:type="dcterms:W3CDTF">2004-02-21T19:32:49Z</dcterms:modified>
  <cp:revision>141</cp:revision>
  <dc:subject/>
  <dc:title>Patterns and Frameworks for Managing Dynamic Views in Web Applications </dc:title>
</cp:coreProperties>
</file>