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E94-CC70-40C2-99E2-3624521F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0F9-DD47-42EC-9E78-1BE26BA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C8C-E13D-41CD-9B81-8B121ECB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753-A9A7-4D64-9E4C-810D2786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AC1-29FA-415F-B5B3-CABABC56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AB3-CAE7-4A9E-84C0-9835171A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48F-6025-47A3-96AA-BE9DDAE8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A66-CBF7-4CFD-BFDD-9B9749B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396-EF70-4181-B720-2A8240F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BA0-27C9-4938-A9F0-67044D27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F14-CE6F-48DE-B55B-27CCEDF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4D2-009C-42A3-8A18-2E4FB7B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6BF7-5B2C-4DF4-9905-E7893380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asis-open.org/home/index.php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660G – Professor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sely Coupled vs. Tightly Couple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24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ightly Coup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osely Coup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ynchro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ynchro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saging Sty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sage Pa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ard Co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ou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chnology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omoge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eteroge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utonomous 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ata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yntactic 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y Conv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ublished Sch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ind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ixed and Ea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a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mantic Adap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y Re-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a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ftware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use;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road Applic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action Fail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ID [27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ol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cal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latively high cost and eff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latively low cost and eff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457200"/>
            <a:ext cx="3733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nal web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osses the boundaries that separate systems, whi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ra-system web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tained within a single system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ernal web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oss the trust domain boundaries that separate departments, divisions, or companies, linking the systems controlled by these separate ent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a-System WS vs. External 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web services are generally more difficult to design and implement because of the expanded trust domains and the challeng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– authentication,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greements – business contracts and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Agreements – business semantics of what the data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greements – who troubleshoots problems and fixes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 – reliability and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(www.w3c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Nations Centre for Trade Facilitation and Electronic Business (www.unece.org/cefact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SIS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asis-open.org/home/index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XML (www.ebXML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s and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Part I of the text – Chaps 1 thru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 can be found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3sch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z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Chaps 1 thru 3 on Black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lackboard.pace.ed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and setup Apache Tomcat (see Chap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and setup Apache AXIS (see Chap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and setup Apache Xerces (see Chap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ign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examples locally in Chaps 5 &amp;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ace website via user accounts and run examples on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out results and submit to me on Feb 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tu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va Web Services Unle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unner, Robert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hen,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bera, Fran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voni, D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ines, St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loppmann, Matth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hal, Beno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rison, K. S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yman, Arth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ber, Jose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tka,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743200"/>
            <a:ext cx="39621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Organiz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X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ement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ng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risks and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barrier to entry (vs. point-to-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venu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sin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ervices Converg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Evolu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19520"/>
            <a:ext cx="17524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676520"/>
            <a:ext cx="2438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860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352680"/>
            <a:ext cx="2743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40381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523880" y="4419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519160" y="4707000"/>
            <a:ext cx="2480040" cy="105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961960" y="4309200"/>
            <a:ext cx="224280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951160" y="4004640"/>
            <a:ext cx="2746800" cy="4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81320" y="3372480"/>
            <a:ext cx="2741040" cy="10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63960" y="1730160"/>
            <a:ext cx="1854720" cy="136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567200">
            <a:off x="175176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395600">
            <a:off x="152316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5680" y="2971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764800">
            <a:off x="993240" y="38858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501800">
            <a:off x="1830960" y="4647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341000">
            <a:off x="5639040" y="1980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1445800">
            <a:off x="63244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A,DCE,RPC,DCOM and 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3657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488000">
            <a:off x="5945040" y="48765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vs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50000">
            <a:off x="6705360" y="4419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876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828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 from programming languages, operating systems and hardware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 of how and what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granularity when dealing with a service (group of components) as opposed to finely-grained individu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ility of the service, not the source or objec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 of ownership driven by standardization which will make integration more generic and easily repea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sely coupled systems can communicate using system independent formats and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brittleness, or said another way, less likely to break when the internals of one service are changed and new services ar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and standardization of web services makes possible one-to-many rather than one-to-one solutions, thereby reducing the incremental cost of adding an additional partner to an existing web-services system trending towards zero (scal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– ubi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– service-oriente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Markup Language, or, XML (language 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bject Access Protocol, or, SO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Definition Language, or, 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Description Discovery and Integration, or, U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280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b-Services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52480" y="762120"/>
          <a:ext cx="6705720" cy="55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2120"/>
                    <a:ext cx="670572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8000" y="1600200"/>
          <a:ext cx="5328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600200"/>
                    <a:ext cx="5328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4:14:51Z</dcterms:created>
  <dc:creator>KB</dc:creator>
  <dc:description/>
  <dc:language>en-US</dc:language>
  <cp:lastModifiedBy>KB</cp:lastModifiedBy>
  <dcterms:modified xsi:type="dcterms:W3CDTF">2004-01-27T21:57:12Z</dcterms:modified>
  <cp:revision>28</cp:revision>
  <dc:subject/>
  <dc:title>Introduction</dc:title>
</cp:coreProperties>
</file>