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91102-9CDF-44CE-A191-7E132CE13D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3A805-1948-410A-8DBA-008EB4CD6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BD5B4-507C-429D-A7A0-01B77D19FE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68D7D6-A15E-44DC-8298-29B2056604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F6C32-EF77-4709-9254-B0AD60DEF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0F7A9-74AC-465A-858C-B2BEB91C8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EF238-1E7B-45BA-989C-3AE690888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D7C79-8F04-4035-94A3-279E7A9CB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EF3A7-EFFF-4BEE-A143-5AD0AA78B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204BC-A93A-4F47-9DAC-87BE21CD9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14DE3-9A90-436F-A3E7-39DD38E48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52DE5-4FF0-4F60-B511-837306EA29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7EC1D-14C7-4D08-B9FD-107C73410E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Web Interfac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2004</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m 1</a:t>
            </a:r>
            <a:endParaRPr b="0" lang="en-US" sz="3200" spc="-1" strike="noStrike">
              <a:solidFill>
                <a:srgbClr val="000000"/>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Unicode MS"/>
              </a:rPr>
              <a:t>Ardian Haliti</a:t>
            </a:r>
            <a:endParaRPr b="0" lang="en-US" sz="1400" spc="-1" strike="noStrike">
              <a:solidFill>
                <a:srgbClr val="000000"/>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Unicode MS"/>
              </a:rPr>
              <a:t>Arvinder Singh</a:t>
            </a:r>
            <a:endParaRPr b="0" lang="en-US" sz="1400" spc="-1" strike="noStrike">
              <a:solidFill>
                <a:srgbClr val="000000"/>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Unicode MS"/>
              </a:rPr>
              <a:t>Andrew Newsome</a:t>
            </a:r>
            <a:endParaRPr b="0" lang="en-US" sz="1400" spc="-1" strike="noStrike">
              <a:solidFill>
                <a:srgbClr val="000000"/>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isa Lau</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Digital signature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gital signatures are meant to prove that a piece of information came from a certain individual or entity. This authentication is accomplished with encryption. If you receive a message that was encrypted with a key that only one other person has, then it is most likely from that perso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 Transaction</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S-Atomic Transacti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 atomic transaction (AT) is used to coordinate activities having a short duration and executed within limited trust domains. They are called atomic transactions because they have an "all or nothing" property. The Atomic Transaction specification defines protocols that enable existing transaction processing systems to wrap their proprietary protocols and interoperate across different hardware and software vendor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 go to our DEMO!!!</a:t>
            </a:r>
            <a:endParaRPr b="0" lang="en-US" sz="4400" spc="-1" strike="noStrike">
              <a:solidFill>
                <a:srgbClr val="000000"/>
              </a:solidFill>
              <a:latin typeface="Times New Roman"/>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TM (Automated Teller Machine) Web Interfa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M provides financial institutions and retailers with shared network services, on-line debit Pos and emerging real-time payment solution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Web Service?</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eb services will allow for backend-to backend connectivity between companies and it can extend the possibilities to streamlined operations and information exchang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benefits </a:t>
            </a:r>
            <a:br>
              <a:rPr sz="4400"/>
            </a:b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4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ovides central point-of-acces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Provide dynamic access, the choices on the screen would vary depending on which customer logged i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al-time access to the information can increase customers’ satisfac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asy for deployment and maintenanc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Security is a big concer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Encryp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ely on SSL encryption to protect ATM information over the Intern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utomatically disconnect idle sessions to prevent unauthorized users from accessing the ATM informatio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ommendation from other Team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Transacti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eam 2, Ian Loe recommended </a:t>
            </a:r>
            <a:r>
              <a:rPr b="0" lang="en-US" sz="2800" spc="-1" strike="noStrike">
                <a:solidFill>
                  <a:srgbClr val="000000"/>
                </a:solidFill>
                <a:latin typeface="Times New Roman"/>
                <a:ea typeface="Times New Roman"/>
              </a:rPr>
              <a:t>using WS-Atomic Transac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Security</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eam 5, Michael </a:t>
            </a:r>
            <a:r>
              <a:rPr b="0" lang="en-US" sz="2800" spc="-1" strike="noStrike">
                <a:solidFill>
                  <a:srgbClr val="000000"/>
                </a:solidFill>
                <a:latin typeface="Times New Roman"/>
                <a:ea typeface="Times New Roman"/>
              </a:rPr>
              <a:t>Perrone</a:t>
            </a:r>
            <a:r>
              <a:rPr b="0" lang="en-US" sz="2800" spc="-1" strike="noStrike">
                <a:solidFill>
                  <a:srgbClr val="000000"/>
                </a:solidFill>
                <a:latin typeface="Times New Roman"/>
              </a:rPr>
              <a:t> suggested the key concern is </a:t>
            </a:r>
            <a:r>
              <a:rPr b="0" lang="en-US" sz="2800" spc="-1" strike="noStrike">
                <a:solidFill>
                  <a:srgbClr val="000000"/>
                </a:solidFill>
                <a:latin typeface="Times New Roman"/>
                <a:ea typeface="Times New Roman"/>
              </a:rPr>
              <a:t>Authentication. Suggested Secure Socket Layer (SSL) and Public Key Infrastructure (PKI)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SL</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cure Sockets Layer (SSL) encryption, authentication, and data integrity for secure application-layer communications between Web servers and standard Web browser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cryption</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ncryption Algorithms – Many encryption algorithms are commonly used to protect data. Of these, most can be categorized as symmetric or asymmetric key algorithms – two very different approaches to encryp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mmetric &amp; Asymmetric</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shared key, or symmetric key, is an encryption method that uses the same key value for both encryption and decryptio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ymmetric key algorithms use a different method of encryption. Two different keys are used: a public key and a private key. The public key is used to encrypt the ciphertext, and the private key is used to decode it back to cleartex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9T22:06:28Z</dcterms:created>
  <dc:creator>test</dc:creator>
  <dc:description/>
  <dc:language>en-US</dc:language>
  <cp:lastModifiedBy>test</cp:lastModifiedBy>
  <dcterms:modified xsi:type="dcterms:W3CDTF">2004-05-09T22:34:48Z</dcterms:modified>
  <cp:revision>2</cp:revision>
  <dc:subject/>
  <dc:title>ATM Web Interface</dc:title>
</cp:coreProperties>
</file>