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4079-BA2A-45C5-B978-8CEFA250B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ADAC-B1D8-40C6-80A5-62EAB3D8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C103-BD89-4573-8066-8C1554502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96BD-698A-4B0E-85A0-7558285E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EC9A-E2BF-4618-AED7-8C1D9FFD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9902-B8E3-4994-B3C7-490A239B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43C0-307F-45B4-BF2C-58AC7D96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5CAE-B0A8-42FF-A28C-E5D1B235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7568-54B1-43BF-91EA-5F7F174F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6D36-FC9B-4FAC-8D85-B2EF7C26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ACA5-1197-46AD-BD0F-CA52A5BF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DBDA-3BE8-4CD6-998D-CF59D870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8EC0-83E4-46F5-A5E5-83A67BEF5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31120" y="142920"/>
            <a:ext cx="616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sic Architecture of an Expert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08040" y="133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es5-14half" descr=""/>
          <p:cNvPicPr/>
          <p:nvPr/>
        </p:nvPicPr>
        <p:blipFill>
          <a:blip r:embed="rId1"/>
          <a:stretch/>
        </p:blipFill>
        <p:spPr>
          <a:xfrm>
            <a:off x="1600200" y="825480"/>
            <a:ext cx="7086600" cy="554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2653-0E1E-4C1B-8560-83A5D65BFB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89680" y="371520"/>
            <a:ext cx="503928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ow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follows from rule 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re is gas in the fuel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re is gas in the carburet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fuel tank was given by th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carburettor was given by th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0DB6-01AE-4CDF-B1F9-F772E9F77E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14560" y="270000"/>
            <a:ext cx="4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6840" y="193680"/>
            <a:ext cx="6623640" cy="66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erci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blood pressure is likely to be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risk of heart failure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blood pressure is likely to be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risk of heart failure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alcohol consumption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patient salt intake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blood pressure is likely to be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alcohol consumption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patient salt intake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blood pressure is likely to be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units of alcohol per week are &gt;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alcohol consumption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units of alcohol per week are &lt;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alcohol consumption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units of alcohol per week are &gt;= 20 AND &lt;+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alcohol consumption is 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al: determine a patient's risk of heart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Questions: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ts of alcohol &gt;30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alt intake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4ACD-061D-412E-8410-249515AC0D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05440" y="228600"/>
            <a:ext cx="845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ward chain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data driven): the inference engine work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nitial content of the workspace towards the final conclu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32080" y="133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es5-17" descr=""/>
          <p:cNvPicPr/>
          <p:nvPr/>
        </p:nvPicPr>
        <p:blipFill>
          <a:blip r:embed="rId1"/>
          <a:stretch/>
        </p:blipFill>
        <p:spPr>
          <a:xfrm>
            <a:off x="1143000" y="3238560"/>
            <a:ext cx="6858000" cy="3211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38080" y="1143000"/>
            <a:ext cx="61257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ule ba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rk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1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 AND B THEN 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2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B THE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3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C AND D THEN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BA72-30F5-401C-96B2-5B312AE946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14400" y="1905120"/>
            <a:ext cx="23623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91120" y="1828800"/>
            <a:ext cx="2057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2286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809880" y="1447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1447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4724280"/>
            <a:ext cx="23623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rns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4648320"/>
            <a:ext cx="205740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5410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320" y="14479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2640" y="40384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7360" y="304920"/>
            <a:ext cx="67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Expert system for diagnosing car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3EE1-16ED-4B52-AB7F-D67CECDAA1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90720" y="1143000"/>
            <a:ext cx="236196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ting g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ga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fuel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ga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carburet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rns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1066680"/>
            <a:ext cx="2057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1523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8960" y="6094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6B7D-34A0-4687-A5F8-52C1EBE7E5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49640" y="304920"/>
            <a:ext cx="642708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lanation in Forward Ch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urrent rule under consideration is prese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 difficult than in backward chai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B82B-3C5D-40EE-85C5-5E1425C709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14200" y="193680"/>
            <a:ext cx="5667120" cy="65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1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management competence is g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External credit rating is f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Bank's credit rating is mar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Loan is rej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2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Loan type is sea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Profitability rating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Solvency rating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Bank's credit rating is mar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3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Cash/current liabilities &gt;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Tentative solvency rating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Solvency rating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ank's credit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sh/current liabiliti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.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ternal credit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a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A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an typ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nagement competen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fitability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lvency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ntative solvency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224D-9A6C-4346-AEB6-D99A9FE1EE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74880" y="34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9880" y="15228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s5-19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099120" cy="4695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63800" y="457200"/>
            <a:ext cx="67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oosing between backward and forward chai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1E39-C930-4D15-8D53-2201B78304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99960" y="304920"/>
            <a:ext cx="56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Hybrid Expert System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6088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es5-20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5570280" cy="509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4DC6-A91B-435C-AC49-B8F94DDD59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79320" y="498600"/>
            <a:ext cx="669600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WEIGHT of MY-FORD &gt; 3,000 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set DETOUR AROUND RICKETY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?VEHICLE is instance-of AUTOMOBIL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?VEHICLE has-a ?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?ENGINE is instance-of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set REFUEL of ?VEHICLE to TRUCK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6A4C-1F6E-4BA3-9744-96B2845534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0520" y="457200"/>
            <a:ext cx="88660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Knowledge ba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- contains the domain specific problem-solving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nowle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c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- represent what we know at any time about the proble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are working 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ul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- represent relationships between the f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ference engin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- is a general program that activates the knowledg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knowledge 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fa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nables the user to communicate with the expert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828D-56E8-4B1E-A494-2CBA3F40DD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111840" y="201600"/>
            <a:ext cx="20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3280" y="1143000"/>
            <a:ext cx="8750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ajor components of an expert system are the knowledge base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erence engine, and user inte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-based expert systems are introdu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are two approaches for controlling inference in rule-base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ert systems: forward chaining and backward chai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DF4F-87DF-42CE-B30A-5056178FAD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37040" y="142920"/>
            <a:ext cx="5522400" cy="62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Rule-Based Exper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ed on the production system conc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engine will 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c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mploy a particular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cute a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play a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2D19-85D3-48D9-86E1-612D22E13F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09240" y="1143000"/>
            <a:ext cx="648144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ference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lection of rule candidates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oice of one rule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flict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cution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1B7A-D8EC-4B66-A73D-356D42F47D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7120" y="0"/>
            <a:ext cx="815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ckward chain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goal driven): the inference engine work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kward from a conclusion to be proven to determine if ther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data in the workspace to prove the truth of the conclu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359000"/>
            <a:ext cx="61257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ule ba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rk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1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 AND B THEN 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2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B THE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3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C AND D THEN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s5-18" descr=""/>
          <p:cNvPicPr/>
          <p:nvPr/>
        </p:nvPicPr>
        <p:blipFill>
          <a:blip r:embed="rId1"/>
          <a:stretch/>
        </p:blipFill>
        <p:spPr>
          <a:xfrm>
            <a:off x="609480" y="3328920"/>
            <a:ext cx="5639040" cy="352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D2E4-8893-4093-8522-BB23A1D229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2280" y="345960"/>
            <a:ext cx="68176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Expert system for diagnosing car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engine will 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engine does not 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lights do not come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battery or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engine does not 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lights do come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the starter mo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re is gas in the fuel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re is gas in the carburet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765C-29D4-49EC-B695-7C5F4086A0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838080"/>
            <a:ext cx="23623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blem i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762120"/>
            <a:ext cx="205740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219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581280" y="3805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380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657600"/>
            <a:ext cx="236232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will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blem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581280"/>
            <a:ext cx="2057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038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58128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2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4038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4038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752480" y="64008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752480" y="6095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7720" y="3808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040" y="297180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5BBA-1988-4BEE-92E5-64D41C23D8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90720" y="1143000"/>
            <a:ext cx="236196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fuel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carburet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will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blem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67080" y="1066680"/>
            <a:ext cx="2057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1523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886200" y="685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685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685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2590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62920" y="25909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057400" y="52578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057400" y="4952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18960" y="6094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3198-1FA8-4987-831E-5901E3C7FB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3400" y="228600"/>
            <a:ext cx="479556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lanation in Backward Ch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fuel tan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carburett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gine will turn ov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has been established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 the engine is getting g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fore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 the engine will turn ov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B3FE-B6B8-4837-BF8A-C324B06D36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0:36:00Z</dcterms:created>
  <dc:creator>sxp</dc:creator>
  <dc:description/>
  <dc:language>en-US</dc:language>
  <cp:lastModifiedBy>sxp</cp:lastModifiedBy>
  <cp:lastPrinted>2000-11-03T11:28:00Z</cp:lastPrinted>
  <dcterms:modified xsi:type="dcterms:W3CDTF">2000-11-14T10:12:13Z</dcterms:modified>
  <cp:revision>6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>Industrial Information Systems
School of Computer Science and IT
The University of Nottingham</vt:lpwstr>
  </property>
  <property fmtid="{D5CDD505-2E9C-101B-9397-08002B2CF9AE}" pid="13" name="OutputDir">
    <vt:lpwstr>C:\My Documents\IndustrialIS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