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3D6-FBAD-4D24-9CE2-A5A8AADE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CDE-77C4-4B07-BF87-BD06BB0A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F63-369D-4249-BDB0-D34B7416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4EA-8F25-4995-9121-F7E307A5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16D-0CFD-45C1-AC93-306FADE0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B7E-BFF1-4920-ACCE-F697D699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D41-743B-481E-9F13-20F5B6DE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E89-FB63-4BAE-B184-F3E9691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A98-8723-4588-B21B-0516677B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C57-58B9-4FCA-8698-AEBEF845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33A-0B6F-4CB1-B267-E75C19D8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36B-7D99-442F-B361-70ECB79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B287-6348-4AC0-9E42-F9A32A8DE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44520"/>
          <a:ext cx="8534160" cy="65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4520"/>
                    <a:ext cx="8534160" cy="65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0" y="4038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724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2578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5627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600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648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42640" y="3885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80060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680" y="55627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716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1828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200400" y="3657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971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1752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952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952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67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686440" y="32004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19920" y="17524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049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81080" y="1980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609480"/>
            <a:ext cx="8382240" cy="457200"/>
            <a:chOff x="380880" y="609480"/>
            <a:chExt cx="8382240" cy="457200"/>
          </a:xfrm>
        </p:grpSpPr>
        <p:sp>
          <p:nvSpPr>
            <p:cNvPr id="71" name=""/>
            <p:cNvSpPr/>
            <p:nvPr/>
          </p:nvSpPr>
          <p:spPr>
            <a:xfrm>
              <a:off x="380880" y="609480"/>
              <a:ext cx="27432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609480"/>
              <a:ext cx="5639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320" y="-7632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M Flow - Controls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1066680"/>
            <a:ext cx="8382240" cy="685800"/>
            <a:chOff x="380880" y="1066680"/>
            <a:chExt cx="8382240" cy="685800"/>
          </a:xfrm>
        </p:grpSpPr>
        <p:sp>
          <p:nvSpPr>
            <p:cNvPr id="75" name=""/>
            <p:cNvSpPr/>
            <p:nvPr/>
          </p:nvSpPr>
          <p:spPr>
            <a:xfrm>
              <a:off x="380880" y="1066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Interface from OutlookSoft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080" y="1066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1752480"/>
            <a:ext cx="8382240" cy="685800"/>
            <a:chOff x="380880" y="1752480"/>
            <a:chExt cx="8382240" cy="685800"/>
          </a:xfrm>
        </p:grpSpPr>
        <p:sp>
          <p:nvSpPr>
            <p:cNvPr id="78" name=""/>
            <p:cNvSpPr/>
            <p:nvPr/>
          </p:nvSpPr>
          <p:spPr>
            <a:xfrm>
              <a:off x="380880" y="1752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Interface control from SUMMIT, PAM, MIDAS and MARS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1752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2438280"/>
            <a:ext cx="8382240" cy="685800"/>
            <a:chOff x="380880" y="2438280"/>
            <a:chExt cx="8382240" cy="685800"/>
          </a:xfrm>
        </p:grpSpPr>
        <p:sp>
          <p:nvSpPr>
            <p:cNvPr id="81" name=""/>
            <p:cNvSpPr/>
            <p:nvPr/>
          </p:nvSpPr>
          <p:spPr>
            <a:xfrm>
              <a:off x="380880" y="2438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438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880" y="3124080"/>
            <a:ext cx="8382240" cy="685800"/>
            <a:chOff x="380880" y="3124080"/>
            <a:chExt cx="8382240" cy="685800"/>
          </a:xfrm>
        </p:grpSpPr>
        <p:sp>
          <p:nvSpPr>
            <p:cNvPr id="84" name=""/>
            <p:cNvSpPr/>
            <p:nvPr/>
          </p:nvSpPr>
          <p:spPr>
            <a:xfrm>
              <a:off x="380880" y="31240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Remotes – Legal Entities Corp Branches to HF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31240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0880" y="3809880"/>
            <a:ext cx="8382240" cy="685800"/>
            <a:chOff x="380880" y="3809880"/>
            <a:chExt cx="8382240" cy="685800"/>
          </a:xfrm>
        </p:grpSpPr>
        <p:sp>
          <p:nvSpPr>
            <p:cNvPr id="87" name=""/>
            <p:cNvSpPr/>
            <p:nvPr/>
          </p:nvSpPr>
          <p:spPr>
            <a:xfrm>
              <a:off x="380880" y="38098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ADP to Axs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4080" y="38098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0880" y="4495680"/>
            <a:ext cx="8382240" cy="685800"/>
            <a:chOff x="380880" y="4495680"/>
            <a:chExt cx="8382240" cy="685800"/>
          </a:xfrm>
        </p:grpSpPr>
        <p:sp>
          <p:nvSpPr>
            <p:cNvPr id="90" name=""/>
            <p:cNvSpPr/>
            <p:nvPr/>
          </p:nvSpPr>
          <p:spPr>
            <a:xfrm>
              <a:off x="380880" y="4495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4495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93" name=""/>
            <p:cNvSpPr/>
            <p:nvPr/>
          </p:nvSpPr>
          <p:spPr>
            <a:xfrm>
              <a:off x="380880" y="5181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. Mapp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5181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who can perform mappings – Access 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accuracy and completeness of 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5867280"/>
            <a:ext cx="8382240" cy="685800"/>
            <a:chOff x="380880" y="5867280"/>
            <a:chExt cx="8382240" cy="685800"/>
          </a:xfrm>
        </p:grpSpPr>
        <p:sp>
          <p:nvSpPr>
            <p:cNvPr id="96" name=""/>
            <p:cNvSpPr/>
            <p:nvPr/>
          </p:nvSpPr>
          <p:spPr>
            <a:xfrm>
              <a:off x="380880" y="5867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. Reconcil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5867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 to reconcile AxsOne to source systems including any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th-end reconciliation reports from AxsOne to source syste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57200" y="685800"/>
            <a:ext cx="7772400" cy="838080"/>
            <a:chOff x="457200" y="685800"/>
            <a:chExt cx="7772400" cy="838080"/>
          </a:xfrm>
        </p:grpSpPr>
        <p:sp>
          <p:nvSpPr>
            <p:cNvPr id="99" name=""/>
            <p:cNvSpPr/>
            <p:nvPr/>
          </p:nvSpPr>
          <p:spPr>
            <a:xfrm>
              <a:off x="457200" y="685800"/>
              <a:ext cx="15238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1080" y="6858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to be converted from Historical 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tail / 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 or Manual – How is this process launched – who launches the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94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1523880"/>
            <a:ext cx="7772400" cy="533520"/>
            <a:chOff x="457200" y="1523880"/>
            <a:chExt cx="7772400" cy="533520"/>
          </a:xfrm>
        </p:grpSpPr>
        <p:sp>
          <p:nvSpPr>
            <p:cNvPr id="105" name=""/>
            <p:cNvSpPr/>
            <p:nvPr/>
          </p:nvSpPr>
          <p:spPr>
            <a:xfrm>
              <a:off x="457200" y="152388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52388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2057400"/>
            <a:ext cx="7772400" cy="533520"/>
            <a:chOff x="457200" y="2057400"/>
            <a:chExt cx="7772400" cy="533520"/>
          </a:xfrm>
        </p:grpSpPr>
        <p:sp>
          <p:nvSpPr>
            <p:cNvPr id="111" name=""/>
            <p:cNvSpPr/>
            <p:nvPr/>
          </p:nvSpPr>
          <p:spPr>
            <a:xfrm>
              <a:off x="457200" y="205740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205740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5:06:35Z</dcterms:created>
  <dc:creator>Internal Audit</dc:creator>
  <dc:description/>
  <dc:language>en-US</dc:language>
  <cp:lastModifiedBy>Alex Choong</cp:lastModifiedBy>
  <dcterms:modified xsi:type="dcterms:W3CDTF">2003-08-22T17:42:05Z</dcterms:modified>
  <cp:revision>12</cp:revision>
  <dc:subject/>
  <dc:title>MBIA</dc:title>
</cp:coreProperties>
</file>