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ED6-7E42-4237-BC3E-66BCF7A9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538-634C-4E1B-A967-F9C05FC1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460-EDA3-418C-AC28-28BE882D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538-8035-4E08-8E6B-0C076807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311-766B-4A8F-BC78-9526B18C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455-662C-4ED5-857D-BCF17F9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E69-101E-4AA6-9B46-BD2D121D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595-1E3F-4549-9791-F80B1AEC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D06-7B5C-4275-9323-7840554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AAB-EDCD-4D17-B8F3-6F5AC3DA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FE4-F869-4466-96D0-606F6AA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AE9-CD68-4D78-82F8-50FD25C9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B270-5BA2-4BE3-A34C-00DDEF07E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344520"/>
          <a:ext cx="8534160" cy="65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4520"/>
                    <a:ext cx="8534160" cy="65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86000" y="4038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3886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5909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724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52578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55627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600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4648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142640" y="38858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4800600"/>
            <a:ext cx="2590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680" y="55627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371600" y="3733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1828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200400" y="36572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971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14800" y="17524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9528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952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4674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686440" y="32004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19920" y="1752480"/>
            <a:ext cx="3045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30492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981080" y="1980720"/>
            <a:ext cx="266724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80880" y="609480"/>
            <a:ext cx="8382240" cy="457200"/>
            <a:chOff x="380880" y="609480"/>
            <a:chExt cx="8382240" cy="457200"/>
          </a:xfrm>
        </p:grpSpPr>
        <p:sp>
          <p:nvSpPr>
            <p:cNvPr id="71" name=""/>
            <p:cNvSpPr/>
            <p:nvPr/>
          </p:nvSpPr>
          <p:spPr>
            <a:xfrm>
              <a:off x="380880" y="609480"/>
              <a:ext cx="27432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609480"/>
              <a:ext cx="563904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l 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320" y="-7632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M Flow - Controls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0880" y="1066680"/>
            <a:ext cx="8382240" cy="685800"/>
            <a:chOff x="380880" y="1066680"/>
            <a:chExt cx="8382240" cy="685800"/>
          </a:xfrm>
        </p:grpSpPr>
        <p:sp>
          <p:nvSpPr>
            <p:cNvPr id="75" name=""/>
            <p:cNvSpPr/>
            <p:nvPr/>
          </p:nvSpPr>
          <p:spPr>
            <a:xfrm>
              <a:off x="380880" y="1066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 Interface from OutlookSoft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24080" y="1066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80880" y="1752480"/>
            <a:ext cx="8382240" cy="685800"/>
            <a:chOff x="380880" y="1752480"/>
            <a:chExt cx="8382240" cy="685800"/>
          </a:xfrm>
        </p:grpSpPr>
        <p:sp>
          <p:nvSpPr>
            <p:cNvPr id="78" name=""/>
            <p:cNvSpPr/>
            <p:nvPr/>
          </p:nvSpPr>
          <p:spPr>
            <a:xfrm>
              <a:off x="380880" y="1752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Interface control from SUMMIT, PAM, MIDAS and MARS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24080" y="1752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880" y="2438280"/>
            <a:ext cx="8382240" cy="685800"/>
            <a:chOff x="380880" y="2438280"/>
            <a:chExt cx="8382240" cy="685800"/>
          </a:xfrm>
        </p:grpSpPr>
        <p:sp>
          <p:nvSpPr>
            <p:cNvPr id="81" name=""/>
            <p:cNvSpPr/>
            <p:nvPr/>
          </p:nvSpPr>
          <p:spPr>
            <a:xfrm>
              <a:off x="380880" y="2438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4080" y="2438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0880" y="3124080"/>
            <a:ext cx="8382240" cy="685800"/>
            <a:chOff x="380880" y="3124080"/>
            <a:chExt cx="8382240" cy="685800"/>
          </a:xfrm>
        </p:grpSpPr>
        <p:sp>
          <p:nvSpPr>
            <p:cNvPr id="84" name=""/>
            <p:cNvSpPr/>
            <p:nvPr/>
          </p:nvSpPr>
          <p:spPr>
            <a:xfrm>
              <a:off x="380880" y="31240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Remotes – Legal Entities Corp Branches to HF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4080" y="31240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0880" y="3809880"/>
            <a:ext cx="8382240" cy="685800"/>
            <a:chOff x="380880" y="3809880"/>
            <a:chExt cx="8382240" cy="685800"/>
          </a:xfrm>
        </p:grpSpPr>
        <p:sp>
          <p:nvSpPr>
            <p:cNvPr id="87" name=""/>
            <p:cNvSpPr/>
            <p:nvPr/>
          </p:nvSpPr>
          <p:spPr>
            <a:xfrm>
              <a:off x="380880" y="38098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 ADP to Axs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4080" y="38098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0880" y="4495680"/>
            <a:ext cx="8382240" cy="685800"/>
            <a:chOff x="380880" y="4495680"/>
            <a:chExt cx="8382240" cy="685800"/>
          </a:xfrm>
        </p:grpSpPr>
        <p:sp>
          <p:nvSpPr>
            <p:cNvPr id="90" name=""/>
            <p:cNvSpPr/>
            <p:nvPr/>
          </p:nvSpPr>
          <p:spPr>
            <a:xfrm>
              <a:off x="380880" y="4495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4495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0880" y="5181480"/>
            <a:ext cx="8382240" cy="685800"/>
            <a:chOff x="380880" y="5181480"/>
            <a:chExt cx="8382240" cy="685800"/>
          </a:xfrm>
        </p:grpSpPr>
        <p:sp>
          <p:nvSpPr>
            <p:cNvPr id="93" name=""/>
            <p:cNvSpPr/>
            <p:nvPr/>
          </p:nvSpPr>
          <p:spPr>
            <a:xfrm>
              <a:off x="380880" y="5181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. Mapp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4080" y="5181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who can perform mappings – Access Sec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accuracy and completeness of 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0880" y="5867280"/>
            <a:ext cx="8382240" cy="685800"/>
            <a:chOff x="380880" y="5867280"/>
            <a:chExt cx="8382240" cy="685800"/>
          </a:xfrm>
        </p:grpSpPr>
        <p:sp>
          <p:nvSpPr>
            <p:cNvPr id="96" name=""/>
            <p:cNvSpPr/>
            <p:nvPr/>
          </p:nvSpPr>
          <p:spPr>
            <a:xfrm>
              <a:off x="380880" y="5867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. Reconcil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5867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 to reconcile AxsOne to source systems including any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nth-end reconciliation reports from AxsOne to source system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57200" y="685800"/>
            <a:ext cx="7772400" cy="838080"/>
            <a:chOff x="457200" y="685800"/>
            <a:chExt cx="7772400" cy="838080"/>
          </a:xfrm>
        </p:grpSpPr>
        <p:sp>
          <p:nvSpPr>
            <p:cNvPr id="99" name=""/>
            <p:cNvSpPr/>
            <p:nvPr/>
          </p:nvSpPr>
          <p:spPr>
            <a:xfrm>
              <a:off x="457200" y="685800"/>
              <a:ext cx="15238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81080" y="6858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to be converted from Historical 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tail / 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292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 or Manual – How is this process launched – who launches the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94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200" y="1523880"/>
            <a:ext cx="7772400" cy="533520"/>
            <a:chOff x="457200" y="1523880"/>
            <a:chExt cx="7772400" cy="533520"/>
          </a:xfrm>
        </p:grpSpPr>
        <p:sp>
          <p:nvSpPr>
            <p:cNvPr id="105" name=""/>
            <p:cNvSpPr/>
            <p:nvPr/>
          </p:nvSpPr>
          <p:spPr>
            <a:xfrm>
              <a:off x="457200" y="152388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152388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92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2057400"/>
            <a:ext cx="7772400" cy="533520"/>
            <a:chOff x="457200" y="2057400"/>
            <a:chExt cx="7772400" cy="533520"/>
          </a:xfrm>
        </p:grpSpPr>
        <p:sp>
          <p:nvSpPr>
            <p:cNvPr id="111" name=""/>
            <p:cNvSpPr/>
            <p:nvPr/>
          </p:nvSpPr>
          <p:spPr>
            <a:xfrm>
              <a:off x="457200" y="205740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205740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292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294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5:06:35Z</dcterms:created>
  <dc:creator>Internal Audit</dc:creator>
  <dc:description/>
  <dc:language>en-US</dc:language>
  <cp:lastModifiedBy>Alex Choong</cp:lastModifiedBy>
  <dcterms:modified xsi:type="dcterms:W3CDTF">2003-08-22T17:42:05Z</dcterms:modified>
  <cp:revision>12</cp:revision>
  <dc:subject/>
  <dc:title>MBIA</dc:title>
</cp:coreProperties>
</file>