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B5D-C6F5-46FD-ACD4-DA5A3910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B2E-1D72-4856-80F4-3E5744A2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083-E628-4C6F-A03A-44BC9B63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4AC-EA3C-4265-80F4-A22275CB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58A-EE10-495C-AC91-4C7ADAFB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E80-64FB-454A-B310-21861811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AEE-1377-48CB-A0BB-2B7C2BF7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F52-21DD-4F9B-9DDF-1A45E8DC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EEF-8DE1-4ED1-B85E-ACA6BF44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096-6009-4388-A1DB-1AF1C4B6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F30-FD97-47F8-876E-132F0F79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71D-6D3E-4740-934F-98EFFB36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89BF-7531-4A13-8C20-27ED6383D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1120" y="142920"/>
            <a:ext cx="61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sic Architecture of an Expe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080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s5-14half" descr=""/>
          <p:cNvPicPr/>
          <p:nvPr/>
        </p:nvPicPr>
        <p:blipFill>
          <a:blip r:embed="rId1"/>
          <a:stretch/>
        </p:blipFill>
        <p:spPr>
          <a:xfrm>
            <a:off x="1600200" y="825480"/>
            <a:ext cx="7086600" cy="55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36B-BF24-4C46-AEC7-7245A60F8D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9680" y="371520"/>
            <a:ext cx="5039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ollows from rul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573-1AE0-4073-880E-3B6A6D2435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560" y="27000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840" y="193680"/>
            <a:ext cx="6623640" cy="66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rc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lt;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= 20 AND &lt;+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: determine a patient's risk of hear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 of alcohol &gt;3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t intak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EDD-2868-42B5-8694-6F4926FE83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5440" y="22860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ata driven): the inference engine work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itial content of the workspace towards the final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2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s5-17" descr=""/>
          <p:cNvPicPr/>
          <p:nvPr/>
        </p:nvPicPr>
        <p:blipFill>
          <a:blip r:embed="rId1"/>
          <a:stretch/>
        </p:blipFill>
        <p:spPr>
          <a:xfrm>
            <a:off x="1143000" y="3238560"/>
            <a:ext cx="6858000" cy="321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1143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A15-77BA-4418-BDE6-678D0F8AF5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905120"/>
            <a:ext cx="2362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82880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098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447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72428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6483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320" y="1447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2640" y="4038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360" y="30492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FEE-02C9-42FB-A2E5-45CF93E066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523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D08-5921-47D8-A4C9-934E64B49A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640" y="304920"/>
            <a:ext cx="64270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For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rule under consideration is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difficult than in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88D-7250-4304-8015-144B0E89D3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200" y="193680"/>
            <a:ext cx="566712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management competence is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External credit rating is 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Loan is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Loan type is 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rofitability rating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3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Cash/current liabilities &gt;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Tentative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nk's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h/current liabil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 ty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ment compet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fitabilit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tative 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077-A233-47E0-85BC-14236926A2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48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152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s5-19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099120" cy="4695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3800" y="45720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ing between backward and for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10F-E56A-4485-81F7-3B70B68DBF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9960" y="30492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brid Expert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s5-20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570280" cy="509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349-1A1F-4F2F-AAAE-F4D3BD5FDA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79320" y="498600"/>
            <a:ext cx="6696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IGHT of MY-FORD &gt; 3,000 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DETOUR AROUND RICKETY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?VEHICLE is instance-of AUTOMOBI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VEHICLE has-a ?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ENGINE is instance-of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REFUEL of ?VEHICLE to TRUCK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767-9EFF-4FB8-84FA-9AFA33321E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0520" y="457200"/>
            <a:ext cx="88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ledg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contains the domain specific problem-solv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what we know at any time about the proble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working 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relationships between the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is a general program that activates the knowledg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knowledg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ables the user to communicate with the expert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B78-5355-4445-9177-C75674BBD8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11840" y="2016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280" y="1143000"/>
            <a:ext cx="875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jor components of an expert system are the knowledge base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erence engine,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-based expert systems are int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wo approaches for controlling inference in rule-ba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t systems: forward chaining and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FAB-43C0-424C-86A4-91B8237FE2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7040" y="142920"/>
            <a:ext cx="55224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-Based Exper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the production system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loy a particul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 a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4D2-7950-4EDD-A0F5-9EBCAE34A3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9240" y="1143000"/>
            <a:ext cx="64814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on of rule candidates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one rule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ion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568-DC0B-47FD-A806-32F441F517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120" y="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goal driven): the inference engine wor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from a conclusion to be proven to determine if the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ata in the workspace to prove the truth of the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59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s5-18" descr=""/>
          <p:cNvPicPr/>
          <p:nvPr/>
        </p:nvPicPr>
        <p:blipFill>
          <a:blip r:embed="rId1"/>
          <a:stretch/>
        </p:blipFill>
        <p:spPr>
          <a:xfrm>
            <a:off x="609480" y="3328920"/>
            <a:ext cx="56390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C28-EEE1-4504-AA13-0894A0C94A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2280" y="345960"/>
            <a:ext cx="6817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not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battery or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the starter 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AD3-65D4-4ACF-9362-D9BC8F3956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838080"/>
            <a:ext cx="2362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7621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81280" y="380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0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6576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5812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812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480" y="6400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7524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720" y="3808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29718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EAA-DAC5-40D9-AB53-36EDC88E77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86200" y="685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85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740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57400" y="4952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EE3-4FE8-4690-8370-8FFB393AC5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3400" y="228600"/>
            <a:ext cx="47955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Back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ine will turn 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been established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the engine is getting g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the engine will turn o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7F0-562A-4330-8FE3-9E225D9B28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0:36:00Z</dcterms:created>
  <dc:creator>sxp</dc:creator>
  <dc:description/>
  <dc:language>en-US</dc:language>
  <cp:lastModifiedBy>sxp</cp:lastModifiedBy>
  <cp:lastPrinted>2000-11-03T11:28:00Z</cp:lastPrinted>
  <dcterms:modified xsi:type="dcterms:W3CDTF">2000-11-14T10:12:13Z</dcterms:modified>
  <cp:revision>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Industrial Information Systems
School of Computer Science and IT
The University of Nottingham</vt:lpwstr>
  </property>
  <property fmtid="{D5CDD505-2E9C-101B-9397-08002B2CF9AE}" pid="13" name="OutputDir">
    <vt:lpwstr>C:\My Documents\IndustrialI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