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B0F6-F816-4A08-8F2C-75CB43B1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B6C7-77CA-4EF5-9975-164498BC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469-FFAF-4A21-8B28-8021110D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34BA-53B5-4DF3-8D27-EA28BFA6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9683-FE66-4696-B361-02341D95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3284-2E6A-43ED-B67E-A52853CA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6605-5014-45C8-883F-58F00DD2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06B4-118B-4B20-B145-D3E87556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9D3-8DD6-4317-9CD9-E0A44D74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48A-BADB-4182-9055-A38BDCD9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4157-7BDA-4722-99D3-C224E7CA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0226-354E-4DA3-8E37-CB878590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7835-20C2-4558-A8B1-976DB9942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1120" y="142920"/>
            <a:ext cx="61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sic Architecture of an Exper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08040" y="133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s5-14half" descr=""/>
          <p:cNvPicPr/>
          <p:nvPr/>
        </p:nvPicPr>
        <p:blipFill>
          <a:blip r:embed="rId1"/>
          <a:stretch/>
        </p:blipFill>
        <p:spPr>
          <a:xfrm>
            <a:off x="1600200" y="825480"/>
            <a:ext cx="7086600" cy="55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AB6D-F7D6-4E27-8AEA-57041ABCE4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89680" y="371520"/>
            <a:ext cx="50392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w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follows from rule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re is gas 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re is gas 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 was given by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 was given by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19B6-F930-4140-BD4D-7066E1900F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4560" y="270000"/>
            <a:ext cx="4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6840" y="193680"/>
            <a:ext cx="6623640" cy="66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rci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blood pressure is likely to b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risk of heart failure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blood pressure is likely to be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risk of heart failure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lcohol consumption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atient salt intake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lood pressure is likely to b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lcohol consumption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atient salt intake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lood pressure is likely to be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g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lt;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gt;= 20 AND &lt;+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al: determine a patient's risk of heart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uestions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ts of alcohol &gt;30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lt intak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4953-C0DC-42DE-91A0-0580538FCB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05440" y="228600"/>
            <a:ext cx="84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ward chai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ata driven): the inference engine work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nitial content of the workspace towards the final concl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3208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es5-17" descr=""/>
          <p:cNvPicPr/>
          <p:nvPr/>
        </p:nvPicPr>
        <p:blipFill>
          <a:blip r:embed="rId1"/>
          <a:stretch/>
        </p:blipFill>
        <p:spPr>
          <a:xfrm>
            <a:off x="1143000" y="3238560"/>
            <a:ext cx="6858000" cy="3211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38080" y="1143000"/>
            <a:ext cx="61257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AND B THEN 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B THE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C AND D THEN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511-8391-431C-BE44-26D4D8597F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1905120"/>
            <a:ext cx="23623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182880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809880" y="1447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1447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4724280"/>
            <a:ext cx="2362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s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4648320"/>
            <a:ext cx="20574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5410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320" y="14479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2640" y="4038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360" y="304920"/>
            <a:ext cx="67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Expert system for diagnosing car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F3B8-6CBE-43D0-B863-4A5366468A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1143000"/>
            <a:ext cx="236196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ga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ga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s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10666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1523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8960" y="609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1250-5756-4268-8221-FD5142D628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49640" y="304920"/>
            <a:ext cx="64270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lanation in Forward Ch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urrent rule under consideration is pres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difficult than in back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FAEF-244C-43CE-A907-1995818CD9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4200" y="193680"/>
            <a:ext cx="566712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management competence is 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External credit rating is f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Bank's credit rating is mar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Loan is rej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Loan type is sea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rofitability rating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ank's credit rating is mar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3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Cash/current liabilities &gt;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Tentative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nk's credit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sh/current liabiliti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ternal credit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a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A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an typ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agement compete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fitabilit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venc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ntative solvenc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C314-97D1-4FDB-845C-19B431BE68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74880" y="34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9880" y="1522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s5-19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099120" cy="4695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63800" y="457200"/>
            <a:ext cx="67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osing between backward and for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F7A7-EBCF-47AE-A1CE-EC163E7858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99960" y="304920"/>
            <a:ext cx="56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Hybrid Expert System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08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es5-20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570280" cy="509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50B7-8248-483D-9948-449A2137BA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79320" y="498600"/>
            <a:ext cx="669600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WEIGHT of MY-FORD &gt; 3,000 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et DETOUR AROUND RICKETY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?VEHICLE is instance-of AUTOMOBIL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?VEHICLE has-a ?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?ENGINE is instance-of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et REFUEL of ?VEHICLE to TRUCK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8552-9008-478D-9C67-21A355BA22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0520" y="457200"/>
            <a:ext cx="8866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Knowledg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contains the domain specific problem-solv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le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represent what we know at any time about the proble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are working 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represent relationships between the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erence engi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is a general program that activates the knowledg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knowledge 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fa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nables the user to communicate with the expert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1A7-CFBC-4937-9709-0754C3C6AB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111840" y="201600"/>
            <a:ext cx="20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3280" y="1143000"/>
            <a:ext cx="8750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ajor components of an expert system are the knowledge base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erence engine, and user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-based expert systems are introdu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two approaches for controlling inference in rule-bas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ert systems: forward chaining and back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38CD-CA7B-4F75-BDBB-444642C9D2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37040" y="142920"/>
            <a:ext cx="552240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Rule-Based Exper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ed on the production system conc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engine will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ploy a particula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cute a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play a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CA32-E036-47DF-B56F-CAAE4094CA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09240" y="1143000"/>
            <a:ext cx="648144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erence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ion of rule candidates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ice of one rule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flict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cution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0FAB-3CBE-4B20-860F-F6F56D4E93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120" y="0"/>
            <a:ext cx="81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ckward chai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goal driven): the inference engine work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kward from a conclusion to be proven to determine if ther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data in the workspace to prove the truth of the concl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359000"/>
            <a:ext cx="61257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AND B THEN 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B THE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C AND D THEN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s5-18" descr=""/>
          <p:cNvPicPr/>
          <p:nvPr/>
        </p:nvPicPr>
        <p:blipFill>
          <a:blip r:embed="rId1"/>
          <a:stretch/>
        </p:blipFill>
        <p:spPr>
          <a:xfrm>
            <a:off x="609480" y="3328920"/>
            <a:ext cx="5639040" cy="35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F937-9145-4063-B2EE-5F5166D602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2280" y="345960"/>
            <a:ext cx="6817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Expert system for diagnosing car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engine will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does not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lights do not com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battery or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does not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lights do com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the starter mo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re is gas 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re is gas 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20D6-BB4E-4797-918D-5EF137BF81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838080"/>
            <a:ext cx="2362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762120"/>
            <a:ext cx="20574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219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581280" y="380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380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657600"/>
            <a:ext cx="23623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wil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5812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038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58128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2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4038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752480" y="64008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752480" y="6095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7720" y="3808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040" y="297180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82AB-3BF4-4D34-BC7B-710897DD41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90720" y="1143000"/>
            <a:ext cx="236196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wil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10666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1523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886200" y="685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685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685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057400" y="52578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057400" y="4952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8960" y="609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E303-7038-4F53-9CF8-BE88B629C0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3400" y="228600"/>
            <a:ext cx="479556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lanation in Backward Ch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gine will turn o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has been established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the engine is getting g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fore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the engine will turn ov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CA56-7A0A-4607-B0E2-B31D754CA4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0:36:00Z</dcterms:created>
  <dc:creator>sxp</dc:creator>
  <dc:description/>
  <dc:language>en-US</dc:language>
  <cp:lastModifiedBy>sxp</cp:lastModifiedBy>
  <cp:lastPrinted>2000-11-03T11:28:00Z</cp:lastPrinted>
  <dcterms:modified xsi:type="dcterms:W3CDTF">2000-11-14T10:12:13Z</dcterms:modified>
  <cp:revision>6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>Industrial Information Systems
School of Computer Science and IT
The University of Nottingham</vt:lpwstr>
  </property>
  <property fmtid="{D5CDD505-2E9C-101B-9397-08002B2CF9AE}" pid="13" name="OutputDir">
    <vt:lpwstr>C:\My Documents\IndustrialI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