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A19-3534-40DC-BDB7-2E6F324EC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B16-435B-41CC-8B52-FF0C2AC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0813-8FF7-498C-91FC-1570DB90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4FA-DDD5-4862-AB6D-6378099F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204-CA91-42D6-83F5-F02F4702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5D7-EB5A-471F-A79D-C7F8E438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AA6-B2CE-4B46-AB11-8014BD90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3E1-E051-4306-8BE1-7BBB9FF0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092-2ABD-4806-A090-212F7849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98E3-ADFC-4C27-B4C7-562C95F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575-A169-44EE-9DD5-5822054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253-6726-4C24-8D04-8D4DC18C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7335-2CA8-46E4-9483-B1A2806FD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1158840"/>
          <a:ext cx="777240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58840"/>
                    <a:ext cx="777240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al Modeling and Estimation of Reliability Functions fo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OPE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new folder for SMERFS3 (option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click th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ERFS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package on the provided C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then type the path name for SMERFS3 package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z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, “OK” and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BEG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click the icon provided in the pack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21563400">
            <a:off x="3276720" y="6019920"/>
            <a:ext cx="1981080" cy="523800"/>
          </a:xfrm>
          <a:custGeom>
            <a:avLst/>
            <a:gdLst>
              <a:gd name="textAreaLeft" fmla="*/ 346680 w 1981080"/>
              <a:gd name="textAreaRight" fmla="*/ 1436400 w 1981080"/>
              <a:gd name="textAreaTop" fmla="*/ 70200 h 523800"/>
              <a:gd name="textAreaBottom" fmla="*/ 4536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2970360"/>
          <a:ext cx="3809880" cy="21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0360"/>
                    <a:ext cx="3809880" cy="21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ing and Manipulating a Data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.  Opening A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rom the too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a sample data file in the SMERFS3 package from the options belo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 Interv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ftware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stem TB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 screen prom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*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may also choose “Data Entry” instead of “File” and specify the data, Data Type and Error History manu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2193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2.  Toolbar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 to display your raw data or smoothed data poi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Meth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 to choose either “Maximum Likelihood” or “Least Squares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– has a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Exec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option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s shown la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at allows one or all Reliability Models to be chosen as well as an “Accuracy Analysis”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32004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352680"/>
            <a:ext cx="1295280" cy="1006560"/>
          </a:xfrm>
          <a:prstGeom prst="rect">
            <a:avLst/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Or create your own file in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TEP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see next page for data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 Mode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143000"/>
          <a:ext cx="769608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76960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4419360"/>
            <a:ext cx="80010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Choose toolbar option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 Choos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 Execu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or model choice and “Accuracy Analysi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 Choose specific model or “Select all…mode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 Choose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for accuracy comparison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 Select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and follow screen prom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523880"/>
            <a:ext cx="609480" cy="914400"/>
          </a:xfrm>
          <a:prstGeom prst="upArrow">
            <a:avLst>
              <a:gd name="adj1" fmla="val 50000"/>
              <a:gd name="adj2" fmla="val 3750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447920"/>
            <a:ext cx="38088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3526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200400"/>
            <a:ext cx="304920" cy="838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396252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18288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962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Execution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066680"/>
          <a:ext cx="77724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7724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4343040"/>
            <a:ext cx="86868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models, listed at the top of their data columns, and the associated Chi-Square for each are shown in green if there was a successful fit to the data and red if there was no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model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 butt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be selected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own l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o find Estimations for the model, propose Predictions, and plot the original raw vs. predicted data or residual da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Accuracy Analysis ratings are listed below the models’ names and can be viewed in depth by selecting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1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displays the raw data points and all selected models’ fits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s shown lat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prints all models’ data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See next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295280"/>
            <a:ext cx="228600" cy="31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153280" y="1447920"/>
            <a:ext cx="38124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2438280"/>
            <a:ext cx="15238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590920"/>
            <a:ext cx="457200" cy="228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38880" y="3048120"/>
            <a:ext cx="457200" cy="228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2400" y="25909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ccessful f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72400" y="30481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 fit/Not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10666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1219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198108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1600" y="2057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962520"/>
            <a:ext cx="838440" cy="533160"/>
          </a:xfrm>
          <a:prstGeom prst="rightArrow">
            <a:avLst>
              <a:gd name="adj1" fmla="val 50000"/>
              <a:gd name="adj2" fmla="val 393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4038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238880" y="2590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048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 Data Pl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1066680"/>
          <a:ext cx="670536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6705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From the earlier Model Execution Summary view, the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button at the bottom yields the above grap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is graph shows the raw data plots with the selected models’ fits. Click on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-D glass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utton to view any overlapping model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The raw data and estimated individual model data is listed on the left and can be viewed via the scroll b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371600"/>
            <a:ext cx="304560" cy="914400"/>
          </a:xfrm>
          <a:prstGeom prst="upArrow">
            <a:avLst>
              <a:gd name="adj1" fmla="val 50000"/>
              <a:gd name="adj2" fmla="val 7505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1676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imations And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629400" cy="403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62940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647960"/>
            <a:ext cx="77724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d by clicking on the individual model’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t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 the Model Execution Summary view, this screen shows the individual model’s Estimations and allows for Predictions to be calculated based on user input (white boxes) for Trade-Off Analysis.  Select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o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 to view graphs of original raw data vs. predicted model data or residual da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371600"/>
            <a:ext cx="4572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1371600"/>
            <a:ext cx="38088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00400" y="1219320"/>
            <a:ext cx="304920" cy="761760"/>
          </a:xfrm>
          <a:prstGeom prst="downArrow">
            <a:avLst>
              <a:gd name="adj1" fmla="val 50000"/>
              <a:gd name="adj2" fmla="val 624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0:42:02Z</dcterms:created>
  <dc:creator>leeca</dc:creator>
  <dc:description/>
  <dc:language>en-US</dc:language>
  <cp:lastModifiedBy>leeca</cp:lastModifiedBy>
  <dcterms:modified xsi:type="dcterms:W3CDTF">2002-03-13T23:16:02Z</dcterms:modified>
  <cp:revision>11</cp:revision>
  <dc:subject/>
  <dc:title>PowerPoint Presentation</dc:title>
</cp:coreProperties>
</file>